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9224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9480" y="6221520"/>
            <a:ext cx="192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39480" y="6221520"/>
            <a:ext cx="192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jeg@sgi.com" TargetMode="External"/><Relationship Id="rId2" Type="http://schemas.openxmlformats.org/officeDocument/2006/relationships/hyperlink" Target="mailto:slc@sgi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695320"/>
            <a:ext cx="67820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SpeedSho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br>
              <a:rPr sz="3600"/>
            </a:b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A Dyninst Based Performance Tool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&amp;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6307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Jim Galarowicz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Manager -  SGI Tools group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Bill Hachfeld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Steve Collins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42520" y="-777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SQ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qlit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Relational Databas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-Fil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2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ies Specified Using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mplex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Major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/Power, IRIX/MIPS, Linux/IA32, Linux/IA64, Linux/AMD Optero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ru64/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Little to No Enh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PA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cl.cs.utk.edu/p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o CPU Performance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Platform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Major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/Power, IRIX/MIPS, Linux/IA32, Linux/IA64, Linux/AMD Opteron, Tru64/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Need Better Per-Threa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1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Python &amp; Boost.Pyth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14800" y="1471680"/>
            <a:ext cx="469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ython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oost.org/libs/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-Oriented Script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ility via C/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Generation of Wrappers (Boost.Pyth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-Driven Test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Major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/Power, IRIX/MIPS, Linux/IA32, Linux/IA64, Linux/AMD Opteron, Tru64/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Little to No Enh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4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Qt®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llte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trolltech.com/products/q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-Oriented GUI Tool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 Help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iz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Platform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Major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/Power, IRIX/MIPS, Linux/IA32, Linux/IA64, Linux/AMD Opteron, Tru64/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Little to No Enh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58120" y="5562720"/>
            <a:ext cx="45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63636"/>
                </a:solidFill>
                <a:latin typeface="Arial"/>
              </a:rPr>
              <a:t>Qt is  trademark of Trolltech in Norway, the United States and other countries.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Data Collection Abst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ors, Parameters,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Tabl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anagement &amp;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ility via Collector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Imple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UI Semantic Rout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Performance Too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Process, Attach to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/Stop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ment Management/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/Set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/Stop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/Restore Performanc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Sta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of Command Set Des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 Imple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1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C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ing of Complex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of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y of Logg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ility via Command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Set Partially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Usability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 Imple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GU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Pane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Selection &amp;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 Selection &amp;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ed Source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ted Lists (e.g. “Top 5 Function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mpari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vs.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Optimization vs. Post-Opt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zards to Guide Novic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ility via Panel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Usability Study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zards &amp; Workflow Prototy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dditional Usability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 Imple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/SpeedSho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deliveries in September and December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sampling experiment delivered to DOE &amp; partners on 3/14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Experiments to delivered one per quarter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Point Ex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Output tra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I call tra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additiona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Galar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jeg@sg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C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lc@sg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mark Acknowledg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, Intel Inside (logos) and Itanium are trademarks of Intel Corporation in the United States, other countries, or both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is a trademark of Linus Torvalds in the United States, other countries or both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t and the Qt logo are trademarks of Trolltech in Norway, the United States and other 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|SpeedShop, SGI SpeedShop, IRIX, SGI  and SGI Altix are trademarks of Silicon Graphics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and Power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rademarks or registered trademarks of International Business Machines Corporation in the United States, other countries, or bo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is a trademark of  Hewlett-Packard Corpo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, the AMD Arrow logo,AMDOpteron, and combinations thereof, are trademaks of Advanced Micro Device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trademarks mentioned herein are the property of their respective own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ation 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|SpeedSho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entation Agen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pen|SpeedSho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Performance Tool Comprised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GI® Speedsho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oftware concepts for the IRIX® operating sys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for Multi-Platform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ed Using Open Source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/NNSA co-funded via AS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dvanced Simulation and Computing Program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ing with Universities of Wisconsin &amp; Ma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Began: July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Milestone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ment Phase Ends: mid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Go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have to be a Computer Scientist or Computer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on earth is call stack sampling?  Why would I use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,  Command Line,  Batch Scheduled -- Your Cho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omponents that already support the platform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recoding may be necessary if using unique features of a particular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usands of Proces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C laboratory systems already use 8192 processors. Future systems even lar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I® Altix® system installed at a customer site has 10240 process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dreds of 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GI customers load 300+ shared libra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Goals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hering New Types of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Views of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d &amp; 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done from the beginning. Not an afterthough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uites delivered with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ubleshooting tools assist in installation and configu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pen Source Tools When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reinvent the wheel</a:t>
            </a: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in Mind Licens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 of Open Sourc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Components (shown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System (Autoconf, Automake, Libtool, Make &amp; G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ntrol (C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(Pyth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OS-Dependent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Monolithic to Encourage R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s of Abstraction Going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 via Plugi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New Data &amp;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Dyn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 of Wisconsin &amp; Mary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dyninst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mentation of Unmodified Bi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Tabl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Most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® /PowerPC®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IX® /MIPS®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ux® /Intel® IA-3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ux® /Intel® IA6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64™/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latform Support 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Compiler Support 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4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verview: DPC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800" y="1461600"/>
            <a:ext cx="46972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ourceforge.net/projects/dp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inst’s Capabilities Across a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of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Some Platform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X/Power, Linux/IA32, Linux/IA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Better Per-Line Symbo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Better Shared Librar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Scalability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Integration of Hybrid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Integration of SGI changes/fi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53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43:20Z</dcterms:created>
  <dc:creator>William Hachfeld</dc:creator>
  <dc:description/>
  <cp:keywords/>
  <dc:language>en-US</dc:language>
  <cp:lastModifiedBy>James Galarowicz</cp:lastModifiedBy>
  <dcterms:modified xsi:type="dcterms:W3CDTF">2005-05-05T04:17:49Z</dcterms:modified>
  <cp:revision>116</cp:revision>
  <dc:subject/>
  <dc:title>PowerPoint Presentation  -  Open/SpeedShop Overview</dc:title>
</cp:coreProperties>
</file>