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1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7680" y="3728160"/>
            <a:ext cx="8471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768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56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840" y="14619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6000" y="14619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7680" y="37281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840" y="37281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6000" y="37281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37680" y="1461960"/>
            <a:ext cx="8471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1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5320" y="263160"/>
            <a:ext cx="844380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768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7680" y="1461960"/>
            <a:ext cx="8471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56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7680" y="3728160"/>
            <a:ext cx="8471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1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7680" y="3728160"/>
            <a:ext cx="8471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768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56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1840" y="14619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6000" y="14619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37680" y="37281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1840" y="37281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6000" y="3728160"/>
            <a:ext cx="27273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1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5320" y="263160"/>
            <a:ext cx="844380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768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560" y="37281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461960"/>
            <a:ext cx="413388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7680" y="3728160"/>
            <a:ext cx="8471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92240"/>
          </a:xfrm>
          <a:prstGeom prst="roundRect">
            <a:avLst>
              <a:gd name="adj" fmla="val 144"/>
            </a:avLst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84438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37680" y="1461960"/>
            <a:ext cx="8471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91200" y="0"/>
            <a:ext cx="2148120" cy="6858000"/>
          </a:xfrm>
          <a:custGeom>
            <a:avLst/>
            <a:gdLst>
              <a:gd name="textAreaLeft" fmla="*/ 360 w 2148120"/>
              <a:gd name="textAreaRight" fmla="*/ 2147760 w 21481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68951">
                <a:moveTo>
                  <a:pt x="15" y="0"/>
                </a:moveTo>
                <a:arcTo wR="15" hR="15" stAng="16200000" swAng="-5400000"/>
                <a:lnTo>
                  <a:pt x="0" y="68936"/>
                </a:lnTo>
                <a:arcTo wR="15" hR="15" stAng="10800000" swAng="-5400000"/>
                <a:lnTo>
                  <a:pt x="21585" y="6895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47800" y="2066760"/>
            <a:ext cx="40626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89480" y="4378320"/>
            <a:ext cx="1438200" cy="336600"/>
            <a:chOff x="5289480" y="4378320"/>
            <a:chExt cx="1438200" cy="336600"/>
          </a:xfrm>
        </p:grpSpPr>
        <p:sp>
          <p:nvSpPr>
            <p:cNvPr id="47" name=""/>
            <p:cNvSpPr/>
            <p:nvPr/>
          </p:nvSpPr>
          <p:spPr>
            <a:xfrm>
              <a:off x="5289480" y="4378320"/>
              <a:ext cx="1438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91280" y="4378320"/>
              <a:ext cx="1434240" cy="33048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63636"/>
                  </a:solidFill>
                  <a:latin typeface="Arial"/>
                </a:rPr>
                <a:t>Present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97000" y="2695680"/>
            <a:ext cx="5508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695320"/>
            <a:ext cx="678204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|SpeedShop™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Open Source Performance Debugger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6307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98520" indent="0" algn="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63636"/>
                </a:solidFill>
                <a:latin typeface="Arial"/>
                <a:ea typeface="HG Mincho Light J;MS Gothic;HG "/>
              </a:rPr>
              <a:t>Jack Carter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398520" indent="0" algn="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63636"/>
                </a:solidFill>
                <a:latin typeface="Arial"/>
                <a:ea typeface="HG Mincho Light J;MS Gothic;HG "/>
              </a:rPr>
              <a:t>MTS SGI Core Engineering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42520" y="-777960"/>
            <a:ext cx="183960" cy="304920"/>
          </a:xfrm>
          <a:custGeom>
            <a:avLst/>
            <a:gdLst>
              <a:gd name="textAreaLeft" fmla="*/ 360 w 183960"/>
              <a:gd name="textAreaRight" fmla="*/ 183600 w 183960"/>
              <a:gd name="textAreaTop" fmla="*/ 360 h 304920"/>
              <a:gd name="textAreaBottom" fmla="*/ 304560 h 304920"/>
            </a:gdLst>
            <a:ahLst/>
            <a:rect l="textAreaLeft" t="textAreaTop" r="textAreaRight" b="textAreaBottom"/>
            <a:pathLst>
              <a:path w="21600" h="35775">
                <a:moveTo>
                  <a:pt x="186" y="0"/>
                </a:moveTo>
                <a:arcTo wR="186" hR="186" stAng="16200000" swAng="-5400000"/>
                <a:lnTo>
                  <a:pt x="0" y="35589"/>
                </a:lnTo>
                <a:arcTo wR="186" hR="186" stAng="10800000" swAng="-5400000"/>
                <a:lnTo>
                  <a:pt x="21414" y="35775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Overview: UI Semantic Rout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I Semantic Routines Pro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on Performance Tool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rocess, Attach to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/Stop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riment Management/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t/Set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/Stop Dat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ve/Restore Performanc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amework Stat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synchronous sanity to asynchronous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12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Overview: C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I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sing of Complex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gging of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play of Logg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Overview: GU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88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play Pane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Selection &amp;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eriment Selection &amp;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otated Source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rted Lists (e.g. “Top 5 Function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Compari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read vs.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Optimization vs. Post-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zards to Guide Novice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8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bility via Panel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17440"/>
            <a:ext cx="84470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74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 using Open|SpeedShop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up scr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PC sampling wiz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in program to run experimen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 as a sorted list of funct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 and data shown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 secon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 collectors for custom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8458200" cy="26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79320" indent="-282600">
              <a:lnSpc>
                <a:spcPts val="1599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679320"/>
                <a:tab algn="l" pos="1136520"/>
                <a:tab algn="l" pos="1593720"/>
                <a:tab algn="l" pos="2050920"/>
                <a:tab algn="l" pos="2508120"/>
                <a:tab algn="l" pos="2965320"/>
                <a:tab algn="l" pos="3422520"/>
                <a:tab algn="l" pos="3879720"/>
                <a:tab algn="l" pos="4336920"/>
                <a:tab algn="l" pos="4794120"/>
                <a:tab algn="l" pos="5251320"/>
                <a:tab algn="l" pos="5708520"/>
                <a:tab algn="l" pos="6165720"/>
                <a:tab algn="l" pos="6622920"/>
                <a:tab algn="l" pos="7080120"/>
                <a:tab algn="l" pos="7537320"/>
                <a:tab algn="l" pos="7994520"/>
                <a:tab algn="l" pos="8451720"/>
                <a:tab algn="l" pos="8908920"/>
                <a:tab algn="l" pos="9366120"/>
                <a:tab algn="l" pos="982332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Intel, Intel Inside (logos) and Itanium are trademarks of Intel Corporation in the United States, other countries, or both.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8260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679320"/>
                <a:tab algn="l" pos="1136520"/>
                <a:tab algn="l" pos="1593720"/>
                <a:tab algn="l" pos="2050920"/>
                <a:tab algn="l" pos="2508120"/>
                <a:tab algn="l" pos="2965320"/>
                <a:tab algn="l" pos="3422520"/>
                <a:tab algn="l" pos="3879720"/>
                <a:tab algn="l" pos="4336920"/>
                <a:tab algn="l" pos="4794120"/>
                <a:tab algn="l" pos="5251320"/>
                <a:tab algn="l" pos="5708520"/>
                <a:tab algn="l" pos="6165720"/>
                <a:tab algn="l" pos="6622920"/>
                <a:tab algn="l" pos="7080120"/>
                <a:tab algn="l" pos="7537320"/>
                <a:tab algn="l" pos="7994520"/>
                <a:tab algn="l" pos="8451720"/>
                <a:tab algn="l" pos="8908920"/>
                <a:tab algn="l" pos="9366120"/>
                <a:tab algn="l" pos="982332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Linux is a trademark of Linus Torvalds in the United States, other countries or both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8260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679320"/>
                <a:tab algn="l" pos="1136520"/>
                <a:tab algn="l" pos="1593720"/>
                <a:tab algn="l" pos="2050920"/>
                <a:tab algn="l" pos="2508120"/>
                <a:tab algn="l" pos="2965320"/>
                <a:tab algn="l" pos="3422520"/>
                <a:tab algn="l" pos="3879720"/>
                <a:tab algn="l" pos="4336920"/>
                <a:tab algn="l" pos="4794120"/>
                <a:tab algn="l" pos="5251320"/>
                <a:tab algn="l" pos="5708520"/>
                <a:tab algn="l" pos="6165720"/>
                <a:tab algn="l" pos="6622920"/>
                <a:tab algn="l" pos="7080120"/>
                <a:tab algn="l" pos="7537320"/>
                <a:tab algn="l" pos="7994520"/>
                <a:tab algn="l" pos="8451720"/>
                <a:tab algn="l" pos="8908920"/>
                <a:tab algn="l" pos="9366120"/>
                <a:tab algn="l" pos="982332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Qt and the Qt logo are trademarks of Trolltech in Norway, the United States and other countr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8260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679320"/>
                <a:tab algn="l" pos="1136520"/>
                <a:tab algn="l" pos="1593720"/>
                <a:tab algn="l" pos="2050920"/>
                <a:tab algn="l" pos="2508120"/>
                <a:tab algn="l" pos="2965320"/>
                <a:tab algn="l" pos="3422520"/>
                <a:tab algn="l" pos="3879720"/>
                <a:tab algn="l" pos="4336920"/>
                <a:tab algn="l" pos="4794120"/>
                <a:tab algn="l" pos="5251320"/>
                <a:tab algn="l" pos="5708520"/>
                <a:tab algn="l" pos="6165720"/>
                <a:tab algn="l" pos="6622920"/>
                <a:tab algn="l" pos="7080120"/>
                <a:tab algn="l" pos="7537320"/>
                <a:tab algn="l" pos="7994520"/>
                <a:tab algn="l" pos="8451720"/>
                <a:tab algn="l" pos="8908920"/>
                <a:tab algn="l" pos="9366120"/>
                <a:tab algn="l" pos="982332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Open|SpeedShop, SGI SpeedShop, IRIX, SGI  and SGI Altix are trademarks of Silicon Graphics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8260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679320"/>
                <a:tab algn="l" pos="1136520"/>
                <a:tab algn="l" pos="1593720"/>
                <a:tab algn="l" pos="2050920"/>
                <a:tab algn="l" pos="2508120"/>
                <a:tab algn="l" pos="2965320"/>
                <a:tab algn="l" pos="3422520"/>
                <a:tab algn="l" pos="3879720"/>
                <a:tab algn="l" pos="4336920"/>
                <a:tab algn="l" pos="4794120"/>
                <a:tab algn="l" pos="5251320"/>
                <a:tab algn="l" pos="5708520"/>
                <a:tab algn="l" pos="6165720"/>
                <a:tab algn="l" pos="6622920"/>
                <a:tab algn="l" pos="7080120"/>
                <a:tab algn="l" pos="7537320"/>
                <a:tab algn="l" pos="7994520"/>
                <a:tab algn="l" pos="8451720"/>
                <a:tab algn="l" pos="8908920"/>
                <a:tab algn="l" pos="9366120"/>
                <a:tab algn="l" pos="982332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IBM is a registered trademarks of International Business Machines Corporation in the United States, other countries, or bo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8260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679320"/>
                <a:tab algn="l" pos="1136520"/>
                <a:tab algn="l" pos="1593720"/>
                <a:tab algn="l" pos="2050920"/>
                <a:tab algn="l" pos="2508120"/>
                <a:tab algn="l" pos="2965320"/>
                <a:tab algn="l" pos="3422520"/>
                <a:tab algn="l" pos="3879720"/>
                <a:tab algn="l" pos="4336920"/>
                <a:tab algn="l" pos="4794120"/>
                <a:tab algn="l" pos="5251320"/>
                <a:tab algn="l" pos="5708520"/>
                <a:tab algn="l" pos="6165720"/>
                <a:tab algn="l" pos="6622920"/>
                <a:tab algn="l" pos="7080120"/>
                <a:tab algn="l" pos="7537320"/>
                <a:tab algn="l" pos="7994520"/>
                <a:tab algn="l" pos="8451720"/>
                <a:tab algn="l" pos="8908920"/>
                <a:tab algn="l" pos="9366120"/>
                <a:tab algn="l" pos="982332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All other trademarks mentioned herein are the property of their respective own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57200"/>
            <a:ext cx="594360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demark Acknowled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lest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n|SpeedShop Milestones and Propose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7000"/>
              </a:lnSpc>
              <a:spcBef>
                <a:spcPts val="1074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nfrastructure deliveries in September and December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7000"/>
              </a:lnSpc>
              <a:spcBef>
                <a:spcPts val="1074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C sampling experiment delivered to DOE &amp; partners on 3/14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Experiments in Pipeline – (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roposed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Tim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Quart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dware Coun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Quart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ing Point Excep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Quart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/Output trac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Quart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PI call trac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Quart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7000"/>
              </a:lnSpc>
              <a:spcBef>
                <a:spcPts val="1074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roposed source availability for SC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87000"/>
              </a:lnSpc>
              <a:spcBef>
                <a:spcPts val="1074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fficial open source sometime second half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lnSpc>
                <a:spcPct val="87000"/>
              </a:lnSpc>
              <a:spcBef>
                <a:spcPts val="1074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lnSpc>
                <a:spcPct val="87000"/>
              </a:lnSpc>
              <a:spcBef>
                <a:spcPts val="1074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17440"/>
            <a:ext cx="84470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185840"/>
            <a:ext cx="83487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97000"/>
              </a:lnSpc>
              <a:spcBef>
                <a:spcPts val="700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Jim Galarowicz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jeg@sgi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l Stipe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stipek@sgi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illiam Hachfel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wdh@sgi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elen Stepanov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helens@sgi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OE – as part of ASC Path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5680" y="217440"/>
            <a:ext cx="84470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dits Co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9160" y="1142640"/>
            <a:ext cx="824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24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124000"/>
              </a:lnSpc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ynins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ointly developed by the University of Wisconsin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University of Maryland - http://www.dynin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PCL 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®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Open Source Project - http://sourceforge.net/projects/dp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680" y="217440"/>
            <a:ext cx="84470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dits Co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4440"/>
            <a:ext cx="84582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124000"/>
              </a:lnSpc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oost.Python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 Source Project -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ttp://www.boost.org/libs/py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124000"/>
              </a:lnSpc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ython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 Source Project - http://www.pytho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124000"/>
              </a:lnSpc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PI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y of Tennessee - http://icl.cs.utk.edu/p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124000"/>
              </a:lnSpc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QLit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Source Project - http://www.sqlit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124000"/>
              </a:lnSpc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t ®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GUI toolkit - http://www.trolltech.com/products/q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124000"/>
              </a:lnSpc>
              <a:spcBef>
                <a:spcPts val="1437"/>
              </a:spcBef>
              <a:spcAft>
                <a:spcPts val="14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k C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carter@sg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ation 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|SpeedShop Presentation Agen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Open|SpeedSh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een 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Is Open|SpeedShop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hat is Open|SpeedSh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 performance analysis/debugging tool that uses a set of experiments to help answer the ques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2049"/>
              </a:spcBef>
              <a:spcAft>
                <a:spcPts val="1701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here is my program spending the most time and 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ho would need a performance analysis/debugging t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y developer interested in the performance of their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2400" y="1143000"/>
            <a:ext cx="847404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7000"/>
              </a:lnSpc>
              <a:spcBef>
                <a:spcPts val="737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hat is Open|SpeedSh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689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en Source Performance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Uses a set of experiments to help answer the ques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here is my program spending the most time and 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Based on SGI® SpeedShop</a:t>
            </a:r>
            <a:r>
              <a:rPr b="1" i="1" lang="en-GB" sz="16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software concepts for the IRIX® operating sys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587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ypes of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587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atch performanc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587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Variety of GUI views for sam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38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luster Frien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38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Multi-Platform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587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pends on availability of Dyn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587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GI target is SGI® Altix® system based on the Intel® Itanium</a:t>
            </a:r>
            <a:r>
              <a:rPr b="1" i="1" lang="en-GB" sz="1200" spc="-1" strike="noStrike" baseline="30000">
                <a:solidFill>
                  <a:srgbClr val="000000"/>
                </a:solidFill>
                <a:latin typeface="Arial"/>
              </a:rPr>
              <a:t>™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38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Implemented Using Open Source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38"/>
              </a:spcBef>
              <a:spcAft>
                <a:spcPts val="575"/>
              </a:spcAft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DOE/NNSA co-funded - as part of ASC Path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Go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156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ing scientists and engineers that may not be versed in computer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ple modes of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and line (interactive and non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ipting (as Python modu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tform Independent When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 of components that already support platforms of inter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me recoding may be necessary if using unique features of an archite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usands of Proces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C laboratory systems already use up to 8192 processors. Future systems even lar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I® Altix® system installed at a customer site has 10240 process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undreds of 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me SGI customers  loads 300+ shared libra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Goals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7404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tensible Plugi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thering New Types of Performa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Views of Performa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r base default experiments are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sted &amp; 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sting done from the beginning. Not an afterthough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nent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pl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oubleshooting tools assist in installation and configu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pen Source Tools When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n't reinvent the whee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ed to allow others to create both open and proprietary tool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undation of Open Sourc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e Components (shown 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ild System (Autoconf, Automake, Libtool, Make &amp; GC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Control (C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sting (Pyth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yer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OS-Dependent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-Monolithic to Encourage R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er Levels of Abstraction Going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tensible via Plugi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 New Data &amp;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ndor 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Overview: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mework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formance Data Collection Abst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ectors, Parameters,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mbol Tabl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Management &amp;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bility via Collector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plifie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ynchronous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260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++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