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601200" cy="73152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B8E2-085E-4022-BFDC-650F125E4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E691-F818-4191-AD1D-FD014C6B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0069-D8BB-4A67-BE0B-472D024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192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924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460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192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924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8195-901E-4D97-B979-8E96C63528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23734-219A-4387-8B41-6DB236351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3950A-23B4-4409-9349-B9945879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BE0F0-3D79-4A4D-B11D-83E1ACE6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79F56-6A5F-4969-A7F5-D9CC3B1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09EAD-872C-4E79-A618-34248F41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7440" y="215640"/>
            <a:ext cx="73468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B41A-E1C5-47EB-BA94-CF930998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F0E6F-A30E-4874-8803-CFA98AA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02CC-ADE1-46BE-8CDD-D9A708B8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4D550-12E9-42BB-AD2D-878B4F0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5ABC0-8534-402C-89C0-DA1E824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B9DE-AB0A-4E14-8CA9-6029E52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42E6-1E71-4FA1-B59A-1E3D5F4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9192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49240" y="136224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0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9192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49240" y="4059720"/>
            <a:ext cx="27208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F4A51-ADFE-4F16-897A-847A5353F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A153-F8C3-4BA3-BFD1-CCDF8AD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1258-EC76-409C-84B3-963E13D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A838-38DD-4D4C-BA71-DA4151CD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440" y="215640"/>
            <a:ext cx="73468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E102-18D5-41B9-B1D1-7F906471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0B35-6A26-4C0D-80B8-DD876A9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64680" y="405972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96F8-7DFC-4875-9FD6-E37D29A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4680" y="1362240"/>
            <a:ext cx="412344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720"/>
            <a:ext cx="8450280" cy="246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9AEA-73BC-4EB3-ADC8-F0E332DA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342800"/>
            <a:ext cx="7740720" cy="2687400"/>
            <a:chOff x="0" y="-1342800"/>
            <a:chExt cx="7740720" cy="2687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497640" cy="1344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5400000">
              <a:off x="5051880" y="-1346040"/>
              <a:ext cx="2685600" cy="269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4600" y="1362240"/>
            <a:ext cx="8450280" cy="5163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5000"/>
          </a:bodyPr>
          <a:p>
            <a:pPr>
              <a:spcBef>
                <a:spcPts val="950"/>
              </a:spcBef>
              <a:spcAft>
                <a:spcPts val="711"/>
              </a:spcAft>
              <a:buClr>
                <a:srgbClr val="ffcc00"/>
              </a:buClr>
              <a:buFont typeface="Arial Narrow"/>
              <a:buChar char=" 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3" marL="1079640" indent="-20340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Arial Narrow"/>
              <a:buChar char="·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4" marL="2102040" indent="-22896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Times New Roma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5" marL="2102040" indent="-22896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Times New Roma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6" marL="2102040" indent="-228960">
              <a:spcBef>
                <a:spcPts val="950"/>
              </a:spcBef>
              <a:spcAft>
                <a:spcPts val="711"/>
              </a:spcAft>
              <a:buClr>
                <a:srgbClr val="000000"/>
              </a:buClr>
              <a:buFont typeface="Times New Roma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76120" y="6558120"/>
          <a:ext cx="215280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6558120"/>
                    <a:ext cx="21528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967160" y="6884640"/>
            <a:ext cx="111132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9126360" y="6884640"/>
            <a:ext cx="39240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 anchorCtr="1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DACB5C8-2C11-496C-8798-DC21EDBECDF1}" type="slidenum"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964640" y="142920"/>
          <a:ext cx="1265040" cy="10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64640" y="142920"/>
                    <a:ext cx="12650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" name="tux" descr=""/>
          <p:cNvPicPr/>
          <p:nvPr/>
        </p:nvPicPr>
        <p:blipFill>
          <a:blip r:embed="rId6"/>
          <a:stretch/>
        </p:blipFill>
        <p:spPr>
          <a:xfrm>
            <a:off x="7488360" y="4867200"/>
            <a:ext cx="1498320" cy="16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76200" y="4992840"/>
          <a:ext cx="660096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4992840"/>
                    <a:ext cx="660096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1628280"/>
            <a:ext cx="8501400" cy="1219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-1342800"/>
            <a:ext cx="7740720" cy="2687400"/>
            <a:chOff x="0" y="-1342800"/>
            <a:chExt cx="7740720" cy="26874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6497640" cy="1344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5051880" y="-1346040"/>
              <a:ext cx="2685600" cy="269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7967160" y="6813360"/>
            <a:ext cx="111132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9126360" y="6884640"/>
            <a:ext cx="392400" cy="501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 anchorCtr="1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n-US" sz="13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D5277C5-E91C-4D13-9AD6-699352526D79}" type="slidenum">
              <a:rPr b="0" lang="en-US" sz="13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64640" y="142920"/>
          <a:ext cx="1265040" cy="10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64640" y="142920"/>
                    <a:ext cx="12650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tux" descr=""/>
          <p:cNvPicPr/>
          <p:nvPr/>
        </p:nvPicPr>
        <p:blipFill>
          <a:blip r:embed="rId6"/>
          <a:stretch/>
        </p:blipFill>
        <p:spPr>
          <a:xfrm>
            <a:off x="7845480" y="4670280"/>
            <a:ext cx="1498680" cy="1651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spcAft>
                <a:spcPts val="711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lvl="1" marL="108000" indent="0" algn="ctr">
              <a:spcBef>
                <a:spcPts val="825"/>
              </a:spcBef>
              <a:spcAft>
                <a:spcPts val="414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2" marL="488880" algn="ctr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22320" algn="ctr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·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735200" indent="236520" algn="ctr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735200" indent="2365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735200" indent="2365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0800" y="1347840"/>
            <a:ext cx="8520120" cy="1846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Sgiv1MediumCAPSnum"/>
              </a:rPr>
              <a:t>FailSaf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Sgiv1MediumCAPSnum"/>
              </a:rPr>
              <a:t>     SGI’s High Availability Solu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36240" y="3585960"/>
            <a:ext cx="8147160" cy="272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Sgiv1Medium"/>
              </a:rPr>
              <a:t>Mayank Vasa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Sgiv1Medium"/>
              </a:rPr>
              <a:t>MTS, Linux FailSafe Gatekeeper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71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Sgiv1Medium"/>
              </a:rPr>
              <a:t>vasa@sgi.com</a:t>
            </a:r>
            <a:endParaRPr b="1" i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678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Datab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7200" y="1736280"/>
            <a:ext cx="7958160" cy="4576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pository for all cluster configur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Dynamic changes suppor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nsistency is automatically suppor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plicated in all nodes of the poo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read and write transactional semant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5787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Database Daem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9680" y="2076120"/>
            <a:ext cx="7799400" cy="3467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ntrols read and write accesses to the CDB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tifies clients of dynamic changes to the CDB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Keeps global</a:t>
            </a:r>
            <a:r>
              <a:rPr b="1" i="1" lang="en-US" sz="3200" spc="-1" strike="noStrike">
                <a:solidFill>
                  <a:srgbClr val="000000"/>
                </a:solidFill>
                <a:latin typeface="Sgiv1Mediu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ortions of the CDB consistent across the pool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7591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Administration Daem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5880" y="1695600"/>
            <a:ext cx="8707320" cy="4287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Daemon responsible for dynamically updating the GUI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AD is a client of CDB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DBD notifies CAD of any changes</a:t>
            </a: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notification (default = email) of status changes in node, cluster or resource grou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15640"/>
            <a:ext cx="7591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Membership Servi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5880" y="1507680"/>
            <a:ext cx="7769160" cy="4924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89000"/>
          </a:bodyPr>
          <a:p>
            <a:pPr lvl="1" marL="338760" indent="-2426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cluster node membership information to its cli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8760" indent="-24264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de membership information includes</a:t>
            </a: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nodes that are currently part of the cluster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Node status i.e. up, down or unknow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Node n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3240" indent="-2883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giv1Medium"/>
              </a:rPr>
              <a:t>IP address currently being used for inter-CMSD communic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38760" indent="-2426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Inactive cluster node membership information is also provid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763416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Membership Service (contd.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3040" y="1709280"/>
            <a:ext cx="7842240" cy="4908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ny change in cluster status results in a node membership message issued by CMSD to its clients on all nodes of the clust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MSD implements failstop and quorum polic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MSDs monitor each other by exchanging heartbeat messages directly with each oth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48760"/>
            <a:ext cx="7837560" cy="135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Group Communication Service</a:t>
            </a:r>
            <a:br>
              <a:rPr sz="4400"/>
            </a:b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5880" y="1474560"/>
            <a:ext cx="7856280" cy="4800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1000"/>
          </a:bodyPr>
          <a:p>
            <a:pPr lvl="1" marL="346320" indent="-2480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a consistent view of </a:t>
            </a:r>
            <a:r>
              <a:rPr b="1" i="1" lang="en-US" sz="3200" spc="-1" strike="noStrike">
                <a:solidFill>
                  <a:srgbClr val="000000"/>
                </a:solidFill>
                <a:latin typeface="Sgiv1Medium"/>
              </a:rPr>
              <a:t>process group memberships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in presence of process failures, new processes joining, and changing node membershi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6320" indent="-2480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a </a:t>
            </a:r>
            <a:r>
              <a:rPr b="1" i="1" lang="en-US" sz="3200" spc="-1" strike="noStrike">
                <a:solidFill>
                  <a:srgbClr val="000000"/>
                </a:solidFill>
                <a:latin typeface="Sgiv1Medium"/>
              </a:rPr>
              <a:t>reliable ordered atomic messaging service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to members of the process group under changing node and group membershi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6320" indent="-2480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CS operates in the context of a cluster as defined by C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7678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System Resource Manag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4240" y="1522080"/>
            <a:ext cx="8721720" cy="4894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5000"/>
          </a:bodyPr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Manages the resources and resource groups in a clust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-ordinates access to physically shared resour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Monitors availability of resour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erforms local failover of resour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Maps a set of resources into a resource </a:t>
            </a: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rou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tomically allocate resource grou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6644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Failsafe Daemon</a:t>
            </a: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5880" y="1695240"/>
            <a:ext cx="7505640" cy="4948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 policy implementor for Resource Groups (RG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the ability to enable/disable monitoring an application dynamicall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ability to failover an application if monitoring fai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can be either local (restart) or remo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6644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Failsafe Daemon (contd.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7080" y="2090880"/>
            <a:ext cx="8707320" cy="3730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Policy Module (PM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M’s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-3240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Failover scrip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-3240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Initial Failure Domain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-3240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Attributes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770724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400" spc="-1" strike="noStrike">
                <a:solidFill>
                  <a:srgbClr val="000000"/>
                </a:solidFill>
                <a:latin typeface="Sgiv1Medium"/>
              </a:rPr>
              <a:t>Cluster Reset Service</a:t>
            </a: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6240" y="1695600"/>
            <a:ext cx="7842240" cy="4962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reset facility in a cluster upon request from one of its cli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vides facility to monitor each reset line that connects to a machine that it is expected to rese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736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Special reset network to ensure connectivity for resetting remote machin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What is it?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2080" y="1766880"/>
            <a:ext cx="7791480" cy="41608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5000"/>
          </a:bodyPr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High Availability for business critical applications at a low cos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1800" indent="-25920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User level software running in a clustered environment provi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single point of failure recover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luster administration services GUI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72200" indent="-30780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 simple way to make applications HA awa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462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100" spc="-1" strike="noStrike">
                <a:solidFill>
                  <a:srgbClr val="000000"/>
                </a:solidFill>
                <a:latin typeface="Sgiv1Medium"/>
              </a:rPr>
              <a:t>Agents</a:t>
            </a: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6240" y="1695600"/>
            <a:ext cx="8178480" cy="4595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87000"/>
          </a:bodyPr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lue between a resource type and the Failsafe daem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llection of action scripts and binaries that the action scripts could be cal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oal : Make a resource a highly available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1200" indent="-23724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Examples: a file server agent, a web server agent, an agent for making an IP address , a filesystem or a volume highly avail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46280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</a:t>
            </a:r>
            <a:r>
              <a:rPr b="1" lang="en-US" sz="4100" spc="-1" strike="noStrike">
                <a:solidFill>
                  <a:srgbClr val="000000"/>
                </a:solidFill>
                <a:latin typeface="Sgiv1Medium"/>
              </a:rPr>
              <a:t>Action Scripts</a:t>
            </a: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5880" y="1695600"/>
            <a:ext cx="8707320" cy="3760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88000"/>
          </a:bodyPr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Determine how a resource is started, stopped and monitored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Action scripts are per resource type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Types: start, stop, monitor, exclusive, restart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Returns status for each resource acted on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  <a:p>
            <a:pPr lvl="1" marL="335160" indent="-240120">
              <a:lnSpc>
                <a:spcPct val="100000"/>
              </a:lnSpc>
              <a:spcBef>
                <a:spcPts val="825"/>
              </a:spcBef>
              <a:spcAft>
                <a:spcPts val="414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giv1Medium"/>
              </a:rPr>
              <a:t>Called by SRM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Sgiv1Medium"/>
              </a:rPr>
              <a:t>FailSafe - Related HA Technologies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2640" y="1566360"/>
            <a:ext cx="7878600" cy="4797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4000"/>
          </a:bodyPr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 journaled file system for fast recover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Safe can support multiple journaled filesystems such as XFS, GFS, ext3f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Volume manager for disk failures (lvm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etwork mirror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-2563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Monitoring tool (mo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5784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Docs, Contacts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1640" y="2490840"/>
            <a:ext cx="7777440" cy="2673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Documentation : http://oss.sgi.com/projects/failsafe/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ontact : failsafe@oss.sgi.co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Q &amp; A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5920" y="2065320"/>
            <a:ext cx="7777080" cy="216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Questions - Sure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nswers …. Well maybe :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What it looks like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333080"/>
            <a:ext cx="8707320" cy="4287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0">
              <a:spcBef>
                <a:spcPts val="1026"/>
              </a:spcBef>
              <a:spcAft>
                <a:spcPts val="51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26"/>
              </a:spcBef>
              <a:spcAft>
                <a:spcPts val="76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image" descr=""/>
          <p:cNvPicPr/>
          <p:nvPr/>
        </p:nvPicPr>
        <p:blipFill>
          <a:blip r:embed="rId1"/>
          <a:stretch/>
        </p:blipFill>
        <p:spPr>
          <a:xfrm>
            <a:off x="484200" y="1712880"/>
            <a:ext cx="7094520" cy="51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6240" y="1695240"/>
            <a:ext cx="7726320" cy="500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de : a single Linux imag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luster : one or more nodes connected via some interconnec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ool : entire set of nodes involved with a group of clust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Node Membership : list of nodes in a cluster on which FailSafe can allocate resource group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 (contd.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6240" y="1900080"/>
            <a:ext cx="8632800" cy="4432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0000"/>
          </a:bodyPr>
          <a:p>
            <a:pPr lvl="1" marL="342720" indent="-2455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Process Membership : list of process instances in a cluster which form a process group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2720" indent="-2455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source : a single physical or logical ent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2720" indent="-2455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Resource Group : Collection of inter-dependent resource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731520" indent="-2916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cannot overlap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731520" indent="-2916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Behaves like an atomic unit of failover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731520" indent="-29160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Sgiv1Medium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giv1Medium"/>
              </a:rPr>
              <a:t>Must have a unique name throughout the cluster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342720" indent="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 (contd.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5880" y="1695240"/>
            <a:ext cx="8707320" cy="4508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: process of moving a resource group from one node to anoth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Policy : method used by FailSafe to determine the destination node of a failov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-2728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Domain : ordered list of nodes on which a given resource group can be alloca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Terminology (contd.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5880" y="1695240"/>
            <a:ext cx="8150040" cy="464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6000"/>
          </a:bodyPr>
          <a:p>
            <a:pPr lvl="1" marL="365400" indent="-2617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Attributes: Auto Failback, Controlled Failback, InPlace Recover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5400" indent="-2617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Failover policy script : shell script which generates an ordered set of node names on which the resource group can be plac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5400" indent="-26172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Sgiv1Medium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Action scripts : scripts which determine how a resource is started, stopped and monitor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440" y="215640"/>
            <a:ext cx="734688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Architecture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333080"/>
            <a:ext cx="8707320" cy="4287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/>
          </a:bodyPr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128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380880" indent="0">
              <a:spcBef>
                <a:spcPts val="1026"/>
              </a:spcBef>
              <a:spcAft>
                <a:spcPts val="51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1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26"/>
              </a:spcBef>
              <a:spcAft>
                <a:spcPts val="763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i="1" lang="en-US" sz="41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1600" y="2120760"/>
            <a:ext cx="7710480" cy="3108240"/>
            <a:chOff x="201600" y="2120760"/>
            <a:chExt cx="7710480" cy="3108240"/>
          </a:xfrm>
        </p:grpSpPr>
        <p:grpSp>
          <p:nvGrpSpPr>
            <p:cNvPr id="114" name=""/>
            <p:cNvGrpSpPr/>
            <p:nvPr/>
          </p:nvGrpSpPr>
          <p:grpSpPr>
            <a:xfrm>
              <a:off x="201600" y="2120760"/>
              <a:ext cx="7684920" cy="3108240"/>
              <a:chOff x="201600" y="2120760"/>
              <a:chExt cx="7684920" cy="3108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01600" y="2120760"/>
                <a:ext cx="7684920" cy="3108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800" y="4276440"/>
                <a:ext cx="765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4200" y="3219120"/>
                <a:ext cx="517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86320" y="2122200"/>
                <a:ext cx="3240" cy="215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737360" y="4399560"/>
              <a:ext cx="534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Cluster Administration services (CA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{CAD, CDBD, CDB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1960" y="3157200"/>
              <a:ext cx="3189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Cluster Infrastructure (C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{CMS, GCS, SRM, CRS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7440" y="2342160"/>
              <a:ext cx="1342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Text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FailSaf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560" y="2862720"/>
              <a:ext cx="25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Cluster Manage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giv1Medium"/>
                </a:rPr>
                <a:t>GUI and CLI</a:t>
              </a:r>
              <a:r>
                <a:rPr b="1" lang="en-US" sz="2000" spc="-1" strike="noStrike">
                  <a:solidFill>
                    <a:srgbClr val="000000"/>
                  </a:solidFill>
                  <a:latin typeface="Sgiv1Tex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72800"/>
            <a:ext cx="7564320" cy="10746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Sgiv1Medium"/>
              </a:rPr>
              <a:t>FailSafe - Acronyms (so many!)</a:t>
            </a:r>
            <a:endParaRPr b="1" lang="en-US" sz="4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1440" y="1638000"/>
            <a:ext cx="7727760" cy="4776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120" bIns="42120" anchor="t">
            <a:normAutofit fontScale="97000"/>
          </a:bodyPr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MS = Cluster Membership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GCS = Group Communication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SRM = System Resource Manag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RS = Cluster Reset Serv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AD = Cluster Administration Daem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DB = Cluster Databa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6936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giv1Medium"/>
              </a:rPr>
              <a:t>CDBD = Cluster Database Daem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1T12:23:31Z</dcterms:created>
  <dc:creator>Mayank Vasa</dc:creator>
  <dc:description/>
  <dc:language>en-US</dc:language>
  <cp:lastModifiedBy>SGI</cp:lastModifiedBy>
  <cp:lastPrinted>2000-03-30T03:07:15Z</cp:lastPrinted>
  <dcterms:modified xsi:type="dcterms:W3CDTF">2000-06-05T23:40:55Z</dcterms:modified>
  <cp:revision>298</cp:revision>
  <dc:subject>SGI's High Availability Solution</dc:subject>
  <dc:title>Linux FailSaf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oss.sgi.com/projects/failsafe/</vt:lpwstr>
  </property>
  <property fmtid="{D5CDD505-2E9C-101B-9397-08002B2CF9AE}" pid="9" name="LinkColor">
    <vt:r8>16711782</vt:r8>
  </property>
  <property fmtid="{D5CDD505-2E9C-101B-9397-08002B2CF9AE}" pid="10" name="MailAddress">
    <vt:lpwstr>vasa@sgi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