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su%20preciosa%20sangre.wav" ContentType="audio/x-wav"/>
  <Override PartName="/ppt/media/image2.png" ContentType="image/png"/>
  <Override PartName="/ppt/media/image13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1C1-111B-433C-9AC5-A65525C1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287-9460-406A-9469-FE87E23C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1B4-B7F8-4A01-97C8-FE5934C5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827-BE70-4801-9758-2B09E97F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1EE-D013-428F-A4B4-7EF4040A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E00-5611-4159-A508-883C36DC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CAE-B95E-479F-8E79-406E328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CF2-789D-4094-A27F-487C5FC0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33E-50C1-4730-A16C-D2808EA8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846-B46B-499F-AC52-3AFB660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2E5-4D13-43DC-AF59-B6A4BB4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100-453C-41F2-ADB6-2B6AECA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95DB-A789-433F-A30D-8B47AEBEB7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4.png"/><Relationship Id="rId7" Type="http://schemas.openxmlformats.org/officeDocument/2006/relationships/audio" Target="../media/su%20preciosa%20sangr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Bisel">
            <a:hlinkClick r:id="" action="ppaction://hlinkshowjump?jump=nextslide"/>
          </p:cNvPr>
          <p:cNvSpPr/>
          <p:nvPr/>
        </p:nvSpPr>
        <p:spPr>
          <a:xfrm>
            <a:off x="21420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 Rectángulo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-49320" y="4943520"/>
            <a:ext cx="384012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3 Rectángulo" descr=""/>
          <p:cNvPicPr/>
          <p:nvPr/>
        </p:nvPicPr>
        <p:blipFill>
          <a:blip r:embed="rId3"/>
          <a:stretch/>
        </p:blipFill>
        <p:spPr>
          <a:xfrm>
            <a:off x="3670200" y="5041800"/>
            <a:ext cx="1779840" cy="1146240"/>
          </a:xfrm>
          <a:prstGeom prst="rect">
            <a:avLst/>
          </a:prstGeom>
          <a:ln w="0">
            <a:noFill/>
          </a:ln>
        </p:spPr>
      </p:pic>
      <p:sp>
        <p:nvSpPr>
          <p:cNvPr id="44" name="7 Bisel">
            <a:hlinkClick r:id="rId4" action="ppaction://hlinksldjump"/>
          </p:cNvPr>
          <p:cNvSpPr/>
          <p:nvPr/>
        </p:nvSpPr>
        <p:spPr>
          <a:xfrm>
            <a:off x="538956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8 Rectángulo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03880" y="4943520"/>
            <a:ext cx="3638520" cy="1238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su%20preciosa%20sang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42920" y="4179960"/>
            <a:ext cx="871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liebter Les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ie Tuere zum Himmel hat er fuer dich aufget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vom Kreuz, aus am Calvarien Berg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Johannes 14:2)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irst du draussen bleiben?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Offenbarung 21:2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der nimmst du das Wort von Jesus Christus an? Der sagte:"Wer den Namen des Herrn anrufen wird, der s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rettet werden"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Apostelgeschichte 2:21; Roemer 10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214200" y="197280"/>
            <a:ext cx="288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it ehrlichkeit, bete dein eigenes gebet oder ieses:   </a:t>
            </a:r>
            <a:r>
              <a:rPr b="1" lang="de-DE" sz="2100" spc="-1" strike="noStrike">
                <a:solidFill>
                  <a:srgbClr val="ff0000"/>
                </a:solidFill>
                <a:latin typeface="Arial"/>
              </a:rPr>
              <a:t>Herr Jesus Christus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ch bekenne mit meinem Mund das du der Herr bist, und glaube in meinem Herzen das Gott dich von den Toten auferwekt hat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Roemer 10: 9,10)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Und ich erkuende  mich gerettet durch Glauben, weil du gesagt hast das es so sein wird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Epheser 2: 8,9)       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Du bist Gott und luegst nicht         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4 Mose 23: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0" y="38160"/>
            <a:ext cx="36352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Ich weiss das ich ein  Suender bin, und reumuetig gestehe ich dir,   das ich deine Verzeihung und Rettung brau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 Johannes 1: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Bitte verzeihe mir und rette m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Von jetzt an nehme ich dich als meinen </a:t>
            </a: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persöhnlichen Retter an und mache dich zu meinem Her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0" y="210240"/>
            <a:ext cx="36781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Mein Herr und me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Gott Jesus Christu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danke dir das d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in herrliches Blut vergossen hast und fuer mich gestorben b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glaube das du am dritten Tage auferstanden bist zu meiner echtfertigung. 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anach aufgestie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bist in den Himmel, woh du dich immer einsetzen wirst fuer mich v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m V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(Roemer 4:25; Lukas 24:6,7 und 5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1 Korinther 15:3,4; Hebraeer 7:2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0000"/>
                </a:solidFill>
                <a:latin typeface="Arial"/>
              </a:rPr>
              <a:t>Bitte hilf mir dir zu folgen bis zum Ende.  A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654200" y="642960"/>
            <a:ext cx="6846840" cy="5472000"/>
          </a:xfrm>
          <a:prstGeom prst="rect">
            <a:avLst/>
          </a:prstGeom>
          <a:ln w="0">
            <a:noFill/>
          </a:ln>
        </p:spPr>
      </p:pic>
      <p:sp>
        <p:nvSpPr>
          <p:cNvPr id="69" name="2 Bisel">
            <a:hlinkClick r:id="" action="ppaction://hlinkshowjump?jump=endshow"/>
          </p:cNvPr>
          <p:cNvSpPr/>
          <p:nvPr/>
        </p:nvSpPr>
        <p:spPr>
          <a:xfrm>
            <a:off x="7500960" y="6215040"/>
            <a:ext cx="1571760" cy="500040"/>
          </a:xfrm>
          <a:prstGeom prst="bevel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564320" y="6145200"/>
            <a:ext cx="1446480" cy="59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1"/>
          <p:cNvSpPr/>
          <p:nvPr/>
        </p:nvSpPr>
        <p:spPr>
          <a:xfrm>
            <a:off x="3143160" y="1368720"/>
            <a:ext cx="417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itte Sende die Nachri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n die ganze Wel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Mach das sie nicht bai dir stopt. Und glaube sie, denn es ist die Wahrheit die dich frei mach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Johannes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"Gott segne dic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428760" y="435780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cc0000"/>
                </a:solidFill>
                <a:latin typeface="Comic Sans MS"/>
              </a:rPr>
              <a:t>HIS                                   PRECIOUS BLO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9"/>
          <p:cNvSpPr/>
          <p:nvPr/>
        </p:nvSpPr>
        <p:spPr>
          <a:xfrm>
            <a:off x="0" y="470880"/>
            <a:ext cx="9144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Not even one eternal soul could be bought ever for heaven, neither with all the value of the indulgence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good works, sacrific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nd offering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of the most famous religions</a:t>
            </a: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Mark 8: 3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28760" y="1422000"/>
            <a:ext cx="835164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t the few litres of the precious blood that God the Son made man shed on the  cros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ying in our pla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re enough to clea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tencially the si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f all man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Matthew 26: 28;  Colossians 1: 14;  Hebrews 9: 2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5508720" y="2781360"/>
            <a:ext cx="3456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Nai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on the cross, still blee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for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89000"/>
            <a:ext cx="403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ecause the blood of Jesus Chri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his So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uri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u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ll s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John 1: 7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95280" y="404640"/>
            <a:ext cx="381636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he Creator of the unive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ho has carried upon him the sins of every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1 Peter 2: 24),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28760" y="4786200"/>
            <a:ext cx="8351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(for all have sinned, and fall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f the glory of God) 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 Romans 3: 23 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ays: “It is finished" (fulfilled mission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John 19: 30)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285840" y="450072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c0000"/>
                </a:solidFill>
                <a:latin typeface="Comic Sans MS"/>
              </a:rPr>
              <a:t>SEIN      KOSTBARES BL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"/>
          <p:cNvSpPr/>
          <p:nvPr/>
        </p:nvSpPr>
        <p:spPr>
          <a:xfrm>
            <a:off x="250920" y="189000"/>
            <a:ext cx="8208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 this way  he pays with his preciou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lood our debt, and put at our disposal the reconciliation with God the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Peter 1: 18, 19;  Hebrews 10: 10 – 14;  2 Corinthians 5: 18, 1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Romans 5: 9 – 11;  Colossians 1: 20 – 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476360" y="465300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Since then, every person who receives the sacrifice of the Lamb of God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(Jesus Christ)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214200" y="785880"/>
            <a:ext cx="32403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s com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nd suffici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od lov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dopts him as a son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ive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eternal life in the king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John 1: 29 and 1: 1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357120" y="785880"/>
            <a:ext cx="253368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 be  you don´t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 much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om h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wever,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fact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od (the Fath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o loved the wor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at he gave us 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nly begotten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Jesus, God the Son), that who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you) belie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in him sh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t perish (in hell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ut have e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ife (in heaven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John 3: 1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250920" y="4365720"/>
            <a:ext cx="871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Beloved read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He opened for you the doors of heaven from the cross of Golgotha!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John 14: 2)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ill you stay outside?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Revelation 21: 27).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Or will you take the word of Jesus? That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hoever  calls on the name of the Lord shall be sav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Acts 2: 21;  Romans 10: 13).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250920" y="78840"/>
            <a:ext cx="2808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ith sincerity, say your own prayer,        or pray like thi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Lord Jesus,                 I confess with my mouth that you are the Lord, and I believe in my heart that God raised you from the dead                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Romans 10: 9, 10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I proclaim myself saved by faith, because you have said that             I would be so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Ephesians 2: 8, 9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ou are God          and you don´t li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Numbers 23: 19).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513360"/>
            <a:ext cx="378000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know that I 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 sinne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repent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conf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need forg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salv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 John 1: 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lease, forgive me and save 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now I receive you as 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ersonal Sav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I make yo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my Lord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14200" y="269640"/>
            <a:ext cx="328608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My Lord and m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Jesus Chri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thank you for having   shed your precious     blood and having          been dead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believe that on the third day you were raised from the dead for my justif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and after you w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taken up into hea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where you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ntercede for me in the presence of the Father</a:t>
            </a:r>
            <a:r>
              <a:rPr b="1" lang="es-ES" sz="2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"/>
              </a:rPr>
              <a:t>(Romans 4: 25;  Luke 24: 6, 7 and 51; 1 Corinthians 15: 3, 4;  Hebrews 7: 25) .</a:t>
            </a:r>
            <a:r>
              <a:rPr b="0" lang="es-ES" sz="1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Please, help me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faithful to you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the end.  Amé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785960" y="1143000"/>
            <a:ext cx="6954840" cy="5072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1"/>
          <p:cNvSpPr/>
          <p:nvPr/>
        </p:nvSpPr>
        <p:spPr>
          <a:xfrm>
            <a:off x="3143160" y="1726920"/>
            <a:ext cx="47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lease,  send it to everybod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Don’t let this mess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stop in you, and believe it, because it is the truth, and the truth shall make you f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John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GOD BLESS YOU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9"/>
          <p:cNvSpPr/>
          <p:nvPr/>
        </p:nvSpPr>
        <p:spPr>
          <a:xfrm>
            <a:off x="0" y="440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Nicht mit dem ganzen wert aller Busgelder, Werke, Opfergaben und Spenden, aller beruehmten Religionen,Wahr es moeglich, auch nur eine einzige, ewige Seele  fuer den Himmel zu kaufen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 Markus 8:36 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214200" y="454320"/>
            <a:ext cx="867564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ber die wenigen Liter seines kostbaren Blutes,die Gott der Sohn,vergossen hatte und dort an unserer Stelle gestorben ist, wahren ausreichend um Potenziell alle Suenden der ganzen Menschheit zu rein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Matthaeus 26:28; Kolosser 1:14; Hebraeer 9:2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5786280" y="3071880"/>
            <a:ext cx="307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enagelt ans Kreuz, no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us blu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uer unsere Suen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189000"/>
            <a:ext cx="382104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en das Bl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von Jesus Christ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ott der Sohn, reinigt uns von jeder Su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(1 Johannes 1: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285840" y="357120"/>
            <a:ext cx="3168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r Schoepfer des Universums, der auf sich genommen hat, die Su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on a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2:2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4200" y="4857840"/>
            <a:ext cx="849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eil alle gesuendigt haben und sind enthoben von der herrlichkeit Gottes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Roemer 3:2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agte:"Es ist vollbracht"(Mission vollendet).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9:3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928800" y="472428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eit dem sind alle Personen, die das Opfer des Opferlam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Gottes(Jesus 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Christ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9640" y="333360"/>
            <a:ext cx="806472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o zahlte sein kostbares Blut unsere Schuld und hat uns die Reichweite zur Versoehnung mit Gott dem Vater gegeb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1:18,19;  Hebraeer 10:10,14;  2 Korinther 5:18,19; Roemer 5:9 bis 11;  Kolosser 2:20,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179280" y="692280"/>
            <a:ext cx="353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uer komm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und genuegend angenommen haben, von Gott aus Liebe zu seine kindern adoptiert worden und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hat ihnen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ewige Leben im Himmelreich geg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:29 und 1: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4200" y="825480"/>
            <a:ext cx="31435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kann sein,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 so viel Li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seiner Se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versteh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trozdem 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eine atsa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den also hat Go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der Vater) die Welt geliebt, das es seinen eingeborenen Sohn (Jesus, Gott der Sohn) gab, damit alle, (d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 ihn glauben, nicht verlohren werden (in der Hoelle) sondern das ewige Le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ben (im Himmel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Johannes 3:16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 </cp:lastModifiedBy>
  <dcterms:modified xsi:type="dcterms:W3CDTF">2008-08-27T04:52:25Z</dcterms:modified>
  <cp:revision>235</cp:revision>
  <dc:subject/>
  <dc:title>SU PRECIOSA SANGRE</dc:title>
</cp:coreProperties>
</file>