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su%20preciosa%20sangre.wav" ContentType="audio/x-wav"/>
  <Override PartName="/ppt/media/image2.png" ContentType="image/png"/>
  <Override PartName="/ppt/media/image13.jpeg" ContentType="image/jpeg"/>
  <Override PartName="/ppt/media/image4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1FF3-14DD-4686-90DB-FD9FDF81B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93A9-EA09-41B6-B8B2-821A4E7D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7154-E346-48FF-AB51-0498C422E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7976-902D-4B9A-9E90-BECE4C86E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1608-BCE4-4B61-8FB3-3D181024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1637-2915-4D0B-B56C-A8A86EC3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E372-9B0C-4DC5-80E1-8F0615F9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BB2D-CA49-4472-8A6D-39171195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7A83-4A40-4A9A-98E0-9E3C41D4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1470-ACBA-410A-B1ED-8EAF25A7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BF96-BFB6-4CBD-B494-A00B14EA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CF2E-C9FE-4EC3-B736-0A72BBDE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8FF0-9C03-4988-A288-9E67DEC2603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image" Target="../media/image4.png"/><Relationship Id="rId7" Type="http://schemas.openxmlformats.org/officeDocument/2006/relationships/audio" Target="../media/su%20preciosa%20sangre.wav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5 Bisel">
            <a:hlinkClick r:id="" action="ppaction://hlinkshowjump?jump=nextslide"/>
          </p:cNvPr>
          <p:cNvSpPr/>
          <p:nvPr/>
        </p:nvSpPr>
        <p:spPr>
          <a:xfrm>
            <a:off x="214200" y="5214960"/>
            <a:ext cx="3357720" cy="928800"/>
          </a:xfrm>
          <a:prstGeom prst="bevel">
            <a:avLst>
              <a:gd name="adj" fmla="val 12500"/>
            </a:avLst>
          </a:prstGeom>
          <a:solidFill>
            <a:srgbClr val="68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1 Rectángulo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-49320" y="4943520"/>
            <a:ext cx="3840120" cy="1238040"/>
          </a:xfrm>
          <a:prstGeom prst="rect">
            <a:avLst/>
          </a:prstGeom>
          <a:ln w="0">
            <a:noFill/>
          </a:ln>
        </p:spPr>
      </p:pic>
      <p:pic>
        <p:nvPicPr>
          <p:cNvPr id="43" name="3 Rectángulo" descr=""/>
          <p:cNvPicPr/>
          <p:nvPr/>
        </p:nvPicPr>
        <p:blipFill>
          <a:blip r:embed="rId3"/>
          <a:stretch/>
        </p:blipFill>
        <p:spPr>
          <a:xfrm>
            <a:off x="3670200" y="5041800"/>
            <a:ext cx="1779840" cy="1146240"/>
          </a:xfrm>
          <a:prstGeom prst="rect">
            <a:avLst/>
          </a:prstGeom>
          <a:ln w="0">
            <a:noFill/>
          </a:ln>
        </p:spPr>
      </p:pic>
      <p:sp>
        <p:nvSpPr>
          <p:cNvPr id="44" name="7 Bisel">
            <a:hlinkClick r:id="rId4" action="ppaction://hlinksldjump"/>
          </p:cNvPr>
          <p:cNvSpPr/>
          <p:nvPr/>
        </p:nvSpPr>
        <p:spPr>
          <a:xfrm>
            <a:off x="5389560" y="5214960"/>
            <a:ext cx="3357720" cy="928800"/>
          </a:xfrm>
          <a:prstGeom prst="bevel">
            <a:avLst>
              <a:gd name="adj" fmla="val 12500"/>
            </a:avLst>
          </a:prstGeom>
          <a:solidFill>
            <a:srgbClr val="68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8 Rectángulo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03880" y="4943520"/>
            <a:ext cx="3638520" cy="12380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7" name="su%20preciosa%20sangr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7"/>
          <p:cNvSpPr/>
          <p:nvPr/>
        </p:nvSpPr>
        <p:spPr>
          <a:xfrm>
            <a:off x="142920" y="4179960"/>
            <a:ext cx="8710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Geliebter Les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die Tuere zum Himmel hat er fuer dich aufgeta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vom Kreuz, aus am Calvarien Berg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(Johannes 14:2)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Wirst du draussen bleiben?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(Offenbarung 21:2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Oder nimmst du das Wort von Jesus Christus an? Der sagte:"Wer den Namen des Herrn anrufen wird, der s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gerettet werden"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(Apostelgeschichte 2:21; Roemer 10:1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mb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214200" y="197280"/>
            <a:ext cx="2881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Mit ehrlichkeit, bete dein eigenes gebet oder ieses:   </a:t>
            </a:r>
            <a:r>
              <a:rPr b="1" lang="de-DE" sz="2100" spc="-1" strike="noStrike">
                <a:solidFill>
                  <a:srgbClr val="ff0000"/>
                </a:solidFill>
                <a:latin typeface="Arial"/>
              </a:rPr>
              <a:t>Herr Jesus Christus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ich bekenne mit meinem Mund das du der Herr bist, und glaube in meinem Herzen das Gott dich von den Toten auferwekt hat  </a:t>
            </a:r>
            <a:r>
              <a:rPr b="0" lang="de-DE" sz="1800" spc="-1" strike="noStrike">
                <a:solidFill>
                  <a:srgbClr val="ffff00"/>
                </a:solidFill>
                <a:latin typeface="Arial"/>
              </a:rPr>
              <a:t>(Roemer 10: 9,10)      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Und ich erkuende  mich gerettet durch Glauben, weil du gesagt hast das es so sein wird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ffff00"/>
                </a:solidFill>
                <a:latin typeface="Arial"/>
              </a:rPr>
              <a:t>Epheser 2: 8,9)             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Du bist Gott und luegst nicht              </a:t>
            </a:r>
            <a:r>
              <a:rPr b="0" lang="de-DE" sz="1800" spc="-1" strike="noStrike">
                <a:solidFill>
                  <a:srgbClr val="ffff00"/>
                </a:solidFill>
                <a:latin typeface="Arial"/>
              </a:rPr>
              <a:t>(4 Mose 23:1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ver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9"/>
          <p:cNvSpPr/>
          <p:nvPr/>
        </p:nvSpPr>
        <p:spPr>
          <a:xfrm>
            <a:off x="0" y="38160"/>
            <a:ext cx="3635280" cy="67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00"/>
                </a:solidFill>
                <a:latin typeface="Arial"/>
              </a:rPr>
              <a:t>Ich weiss das ich ein  Suender bin, und reumuetig gestehe ich dir,   das ich deine Verzeihung und Rettung brauc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1 Johannes 1: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00"/>
                </a:solidFill>
                <a:latin typeface="Arial"/>
              </a:rPr>
              <a:t>Bitte verzeihe mir und rette mi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00"/>
                </a:solidFill>
                <a:latin typeface="Arial"/>
              </a:rPr>
              <a:t>Von jetzt an nehme ich dich als meinen </a:t>
            </a:r>
            <a:r>
              <a:rPr b="1" lang="de-DE" sz="2800" spc="-1" strike="noStrike">
                <a:solidFill>
                  <a:srgbClr val="006600"/>
                </a:solidFill>
                <a:latin typeface="Arial"/>
              </a:rPr>
              <a:t>persöhnlichen Retter an und mache dich zu meinem Herr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8"/>
          <p:cNvSpPr/>
          <p:nvPr/>
        </p:nvSpPr>
        <p:spPr>
          <a:xfrm>
            <a:off x="0" y="210240"/>
            <a:ext cx="3678120" cy="62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cc0000"/>
                </a:solidFill>
                <a:latin typeface="Arial"/>
              </a:rPr>
              <a:t>Mein Herr und mei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cc0000"/>
                </a:solidFill>
                <a:latin typeface="Arial"/>
              </a:rPr>
              <a:t>Gott Jesus Christu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cc0000"/>
                </a:solidFill>
                <a:latin typeface="Arial"/>
              </a:rPr>
              <a:t>ich danke dir das d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cc0000"/>
                </a:solidFill>
                <a:latin typeface="Arial"/>
              </a:rPr>
              <a:t>dein herrliches Blut vergossen hast und fuer mich gestorben bis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cc0000"/>
                </a:solidFill>
                <a:latin typeface="Arial"/>
              </a:rPr>
              <a:t>Ich glaube das du am dritten Tage auferstanden bist zu meiner echtfertigung. U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cc0000"/>
                </a:solidFill>
                <a:latin typeface="Arial"/>
              </a:rPr>
              <a:t>danach aufgestieg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cc0000"/>
                </a:solidFill>
                <a:latin typeface="Arial"/>
              </a:rPr>
              <a:t>bist in den Himmel, woh du dich immer einsetzen wirst fuer mich v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cc0000"/>
                </a:solidFill>
                <a:latin typeface="Arial"/>
              </a:rPr>
              <a:t>dem Va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0066"/>
                </a:solidFill>
                <a:latin typeface="Arial"/>
              </a:rPr>
              <a:t>(Roemer 4:25; Lukas 24:6,7 und 5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0066"/>
                </a:solidFill>
                <a:latin typeface="Arial"/>
              </a:rPr>
              <a:t>1 Korinther 15:3,4; Hebraeer 7:2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90000"/>
                </a:solidFill>
                <a:latin typeface="Arial"/>
              </a:rPr>
              <a:t>Bitte hilf mir dir zu folgen bis zum Ende.  Am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C:\Documents and Settings\HABADEUS\Mis documentos\HABADEUS\corel\imagenes presentacioness mayo 2007\Imagen7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Documents and Settings\HABADEUS\Mis documentos\HABADEUS\corel\imagenes presentacioness mayo 2007\Imagen125.png"/>
          <p:cNvPicPr/>
          <p:nvPr/>
        </p:nvPicPr>
        <p:blipFill>
          <a:blip r:embed="rId2"/>
          <a:stretch/>
        </p:blipFill>
        <p:spPr>
          <a:xfrm>
            <a:off x="1654200" y="642960"/>
            <a:ext cx="6846840" cy="5472000"/>
          </a:xfrm>
          <a:prstGeom prst="rect">
            <a:avLst/>
          </a:prstGeom>
          <a:ln w="0">
            <a:noFill/>
          </a:ln>
        </p:spPr>
      </p:pic>
      <p:sp>
        <p:nvSpPr>
          <p:cNvPr id="69" name="2 Bisel">
            <a:hlinkClick r:id="" action="ppaction://hlinkshowjump?jump=endshow"/>
          </p:cNvPr>
          <p:cNvSpPr/>
          <p:nvPr/>
        </p:nvSpPr>
        <p:spPr>
          <a:xfrm>
            <a:off x="7500960" y="6215040"/>
            <a:ext cx="1571760" cy="500040"/>
          </a:xfrm>
          <a:prstGeom prst="bevel">
            <a:avLst>
              <a:gd name="adj" fmla="val 12500"/>
            </a:avLst>
          </a:prstGeom>
          <a:solidFill>
            <a:srgbClr val="cc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4 Rectángulo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7564320" y="6145200"/>
            <a:ext cx="1446480" cy="5968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1"/>
          <p:cNvSpPr/>
          <p:nvPr/>
        </p:nvSpPr>
        <p:spPr>
          <a:xfrm>
            <a:off x="3143160" y="1368720"/>
            <a:ext cx="417672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Bitte Sende die Nachrich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in die ganze Wel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Mach das sie nicht bai dir stopt. Und glaube sie, denn es ist die Wahrheit die dich frei mach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Johannes 8:3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"Gott segne dich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38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385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38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38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01 Pista 1.wma" descr=""/>
          <p:cNvPicPr/>
          <p:nvPr/>
        </p:nvPicPr>
        <p:blipFill>
          <a:blip r:embed="rId2"/>
          <a:stretch/>
        </p:blipFill>
        <p:spPr>
          <a:xfrm>
            <a:off x="9063000" y="6777000"/>
            <a:ext cx="81000" cy="81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2"/>
          <p:cNvSpPr/>
          <p:nvPr/>
        </p:nvSpPr>
        <p:spPr>
          <a:xfrm>
            <a:off x="428760" y="4357800"/>
            <a:ext cx="8429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cc0000"/>
                </a:solidFill>
                <a:latin typeface="Comic Sans MS"/>
              </a:rPr>
              <a:t>HIS                                   PRECIOUS BLOO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9"/>
          <p:cNvSpPr/>
          <p:nvPr/>
        </p:nvSpPr>
        <p:spPr>
          <a:xfrm>
            <a:off x="0" y="470880"/>
            <a:ext cx="9144000" cy="57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Not even one eternal soul could be bought ever for heaven, neither with all the value of the indulgences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good works, sacrific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and offerings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of the most famous religions</a:t>
            </a: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(Mark 8: 36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blinds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9"/>
          <p:cNvSpPr/>
          <p:nvPr/>
        </p:nvSpPr>
        <p:spPr>
          <a:xfrm>
            <a:off x="1258920" y="3382920"/>
            <a:ext cx="698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428760" y="1422000"/>
            <a:ext cx="8351640" cy="50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ut the few litres of the precious blood that God the Son made man shed on the  cros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ying in our plac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were enough to clean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potencially the si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of all mank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(Matthew 26: 28;  Colossians 1: 14;  Hebrews 9: 22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blinds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6"/>
          <p:cNvSpPr/>
          <p:nvPr/>
        </p:nvSpPr>
        <p:spPr>
          <a:xfrm>
            <a:off x="5508720" y="2781360"/>
            <a:ext cx="3456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Nail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on the cross, still bleed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for our sin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250920" y="189000"/>
            <a:ext cx="4032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Because the blood of Jesus Chris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his Son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purif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us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all s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(1 John 1: 7)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zoom dir="in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6"/>
          <p:cNvSpPr/>
          <p:nvPr/>
        </p:nvSpPr>
        <p:spPr>
          <a:xfrm>
            <a:off x="395280" y="404640"/>
            <a:ext cx="3816360" cy="40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the Creator of the univer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who has carried upon him the sins of every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(1 Peter 2: 24),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28760" y="4786200"/>
            <a:ext cx="8351640" cy="18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(for all have sinned, and fall sh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f the glory of God) 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( Romans 3: 23 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ays: “It is finished" (fulfilled mission)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(John 19: 30).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zoom dir="ou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1187280" y="549360"/>
            <a:ext cx="6859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01 Pista 1.wma" descr=""/>
          <p:cNvPicPr/>
          <p:nvPr/>
        </p:nvPicPr>
        <p:blipFill>
          <a:blip r:embed="rId2"/>
          <a:stretch/>
        </p:blipFill>
        <p:spPr>
          <a:xfrm>
            <a:off x="9063000" y="6777000"/>
            <a:ext cx="81000" cy="81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2"/>
          <p:cNvSpPr/>
          <p:nvPr/>
        </p:nvSpPr>
        <p:spPr>
          <a:xfrm>
            <a:off x="285840" y="4500720"/>
            <a:ext cx="86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cc0000"/>
                </a:solidFill>
                <a:latin typeface="Comic Sans MS"/>
              </a:rPr>
              <a:t>SEIN      KOSTBARES BL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0"/>
          <p:cNvSpPr/>
          <p:nvPr/>
        </p:nvSpPr>
        <p:spPr>
          <a:xfrm>
            <a:off x="250920" y="189000"/>
            <a:ext cx="8208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 this way  he pays with his precious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lood our debt, and put at our disposal the reconciliation with God the F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(1 Peter 1: 18, 19;  Hebrews 10: 10 – 14;  2 Corinthians 5: 18, 19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Romans 5: 9 – 11;  Colossians 1: 20 – 2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1476360" y="4653000"/>
            <a:ext cx="734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Since then, every person who receives the sacrifice of the Lamb of God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(Jesus Christ)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2000">
    <p:checker dir="horz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8"/>
          <p:cNvSpPr/>
          <p:nvPr/>
        </p:nvSpPr>
        <p:spPr>
          <a:xfrm>
            <a:off x="214200" y="785880"/>
            <a:ext cx="3240360" cy="50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as compl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and suffici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God love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adopts him as a son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gives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eternal life in the kingd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of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(John 1: 29 and 1: 12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checker dir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C:\Documents and Settings\HABADEUS\Mis documentos\HABADEUS\corel\imagenes presentacioness mayo 2007\ImagenTTT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357120" y="785880"/>
            <a:ext cx="2533680" cy="58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y be  you don´t underst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o much l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rom hi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owever, it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 fact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God (the Fath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so loved the worl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that he gave us 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only begotten 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(Jesus, God the Son), that who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(you) belie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in him shou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not perish (in hell)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but have eter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life (in heaven)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John 3: 16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mb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7"/>
          <p:cNvSpPr/>
          <p:nvPr/>
        </p:nvSpPr>
        <p:spPr>
          <a:xfrm>
            <a:off x="250920" y="4365720"/>
            <a:ext cx="871380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Beloved read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He opened for you the doors of heaven from the cross of Golgotha!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(John 14: 2) </a:t>
            </a:r>
            <a:r>
              <a:rPr b="0" lang="es-E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Will you stay outside?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(Revelation 21: 27).</a:t>
            </a:r>
            <a:r>
              <a:rPr b="0" lang="es-E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Or will you take the word of Jesus? That s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whoever  calls on the name of the Lord shall be sav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cc"/>
                </a:solidFill>
                <a:latin typeface="Arial"/>
              </a:rPr>
              <a:t>                               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(Acts 2: 21;  Romans 10: 13).</a:t>
            </a:r>
            <a:r>
              <a:rPr b="0" lang="es-ES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mb dir="vert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250920" y="78840"/>
            <a:ext cx="280836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ith sincerity, say your own prayer,        or pray like this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Lord Jesus,                 I confess with my mouth that you are the Lord, and I believe in my heart that God raised you from the dead                                                       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(Romans 10: 9, 10)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nd I proclaim myself saved by faith, because you have said that             I would be so                                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(Ephesians 2: 8, 9)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You are God          and you don´t lie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(Numbers 23: 19).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ver dir="d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513360"/>
            <a:ext cx="3780000" cy="63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I know that I 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a sinner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and repenta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I confess tha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I need forgive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and salv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from yo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1 John 1: 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Please, forgive me and save 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From now I receive you as m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personal Savio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and I make you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my Lord.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214200" y="269640"/>
            <a:ext cx="3286080" cy="63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My Lord and my G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Jesus Chris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I thank you for having   shed your precious     blood and having          been dead for 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I believe that on the third day you were raised from the dead for my justific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and after you w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taken up into heav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where you al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intercede for me in the presence of the Father</a:t>
            </a:r>
            <a:r>
              <a:rPr b="1" lang="es-ES" sz="20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60066"/>
                </a:solidFill>
                <a:latin typeface="Arial"/>
              </a:rPr>
              <a:t>(Romans 4: 25;  Luke 24: 6, 7 and 51; 1 Corinthians 15: 3, 4;  Hebrews 7: 25) .</a:t>
            </a:r>
            <a:r>
              <a:rPr b="0" lang="es-ES" sz="1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Please, help me to 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faithful to you u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the end.  Amé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C:\Documents and Settings\HABADEUS\Mis documentos\HABADEUS\corel\imagenes presentacioness mayo 2007\Imagen7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Documents and Settings\HABADEUS\Mis documentos\HABADEUS\corel\imagenes presentacioness mayo 2007\Imagen125.png"/>
          <p:cNvPicPr/>
          <p:nvPr/>
        </p:nvPicPr>
        <p:blipFill>
          <a:blip r:embed="rId2"/>
          <a:stretch/>
        </p:blipFill>
        <p:spPr>
          <a:xfrm>
            <a:off x="1785960" y="1143000"/>
            <a:ext cx="6954840" cy="50720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1"/>
          <p:cNvSpPr/>
          <p:nvPr/>
        </p:nvSpPr>
        <p:spPr>
          <a:xfrm>
            <a:off x="3143160" y="1726920"/>
            <a:ext cx="4714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s-ES" sz="2200" spc="-1" strike="noStrike">
                <a:solidFill>
                  <a:srgbClr val="ff0000"/>
                </a:solidFill>
                <a:latin typeface="Arial"/>
              </a:rPr>
              <a:t>lease,  send it to everybody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Arial"/>
              </a:rPr>
              <a:t>Don’t let this mess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Arial"/>
              </a:rPr>
              <a:t>stop in you, and believe it, because it is the truth, and the truth shall make you fre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John 8:3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GOD BLESS YOU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newsflash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38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385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5" dur="38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38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9"/>
          <p:cNvSpPr/>
          <p:nvPr/>
        </p:nvSpPr>
        <p:spPr>
          <a:xfrm>
            <a:off x="0" y="44064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Arial"/>
              </a:rPr>
              <a:t>Nicht mit dem ganzen wert aller Busgelder, Werke, Opfergaben und Spenden, aller beruehmten Religionen,Wahr es moeglich, auch nur eine einzige, ewige Seele  fuer den Himmel zu kaufen 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( Markus 8:36 )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blinds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214200" y="454320"/>
            <a:ext cx="8675640" cy="53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de-DE" sz="4400" spc="-1" strike="noStrike">
                <a:solidFill>
                  <a:srgbClr val="ffffff"/>
                </a:solidFill>
                <a:latin typeface="Arial"/>
              </a:rPr>
              <a:t>ber die wenigen Liter seines kostbaren Blutes,die Gott der Sohn,vergossen hatte und dort an unserer Stelle gestorben ist, wahren ausreichend um Potenziell alle Suenden der ganzen Menschheit zu reini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(Matthaeus 26:28; Kolosser 1:14; Hebraeer 9:2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258920" y="3382920"/>
            <a:ext cx="698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blinds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6"/>
          <p:cNvSpPr/>
          <p:nvPr/>
        </p:nvSpPr>
        <p:spPr>
          <a:xfrm>
            <a:off x="5786280" y="3071880"/>
            <a:ext cx="3071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Genagelt ans Kreuz, no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aus blute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fuer unsere Suen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50920" y="189000"/>
            <a:ext cx="3821040" cy="38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Den das Bl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von Jesus Christu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Gott der Sohn, reinigt uns von jeder Suen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Arial"/>
              </a:rPr>
              <a:t>(1 Johannes 1: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zoom dir="in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6"/>
          <p:cNvSpPr/>
          <p:nvPr/>
        </p:nvSpPr>
        <p:spPr>
          <a:xfrm>
            <a:off x="285840" y="357120"/>
            <a:ext cx="316872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der Schoepfer des Universums, der auf sich genommen hat, die Su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von all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00"/>
                </a:solidFill>
                <a:latin typeface="Arial"/>
              </a:rPr>
              <a:t>(1 Petrus 2:2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771480" y="428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14200" y="4857840"/>
            <a:ext cx="8498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weil alle gesuendigt haben und sind enthoben von der herrlichkeit Gottes </a:t>
            </a:r>
            <a:r>
              <a:rPr b="0" lang="de-DE" sz="2000" spc="-1" strike="noStrike">
                <a:solidFill>
                  <a:srgbClr val="ffff00"/>
                </a:solidFill>
                <a:latin typeface="Arial"/>
              </a:rPr>
              <a:t>(Roemer 3:2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sagte:"Es ist vollbracht"(Mission vollendet). </a:t>
            </a:r>
            <a:r>
              <a:rPr b="0" lang="de-DE" sz="2000" spc="-1" strike="noStrike">
                <a:solidFill>
                  <a:srgbClr val="ffff00"/>
                </a:solidFill>
                <a:latin typeface="Arial"/>
              </a:rPr>
              <a:t>(Johannes 19:3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zoom dir="ou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0" y="0"/>
            <a:ext cx="9144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66ff33"/>
                </a:solidFill>
                <a:latin typeface="Arial"/>
              </a:rPr>
              <a:t>                                              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928800" y="4724280"/>
            <a:ext cx="745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Arial"/>
              </a:rPr>
              <a:t>Seit dem sind alle Personen, die das Opfer des Opferlam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Arial"/>
              </a:rPr>
              <a:t>Gottes(Jesus </a:t>
            </a:r>
            <a:r>
              <a:rPr b="1" lang="de-DE" sz="3600" spc="-1" strike="noStrike">
                <a:solidFill>
                  <a:srgbClr val="ffff00"/>
                </a:solidFill>
                <a:latin typeface="Arial"/>
              </a:rPr>
              <a:t>Christu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539640" y="333360"/>
            <a:ext cx="8064720" cy="23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So zahlte sein kostbares Blut unsere Schuld und hat uns die Reichweite zur Versoehnung mit Gott dem Vater gegeben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ff00"/>
                </a:solidFill>
                <a:latin typeface="Arial"/>
              </a:rPr>
              <a:t>(1 Petrus 1:18,19;  Hebraeer 10:10,14;  2 Korinther 5:18,19; Roemer 5:9 bis 11;  Kolosser 2:20,2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2000">
    <p:checker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8"/>
          <p:cNvSpPr/>
          <p:nvPr/>
        </p:nvSpPr>
        <p:spPr>
          <a:xfrm>
            <a:off x="179280" y="692280"/>
            <a:ext cx="3535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fuer kommpl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und genuegend angenommen haben, von Gott aus Liebe zu seine kindern adoptiert worden und 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hat ihnen d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ewige Leben im Himmelreich gegeb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ff00"/>
                </a:solidFill>
                <a:latin typeface="Arial"/>
              </a:rPr>
              <a:t>(Johannes 1:29 und 1:1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checker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Documents and Settings\HABADEUS\Mis documentos\HABADEUS\corel\imagenes presentacioness mayo 2007\ImagenTTT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214200" y="825480"/>
            <a:ext cx="3143520" cy="59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s kann sein, 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 so viel Lie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n seiner Se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icht verstehs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trozdem i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s eine atsach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"den also hat Got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der Vater) die Welt geliebt, das es seinen eingeborenen Sohn (Jesus, Gott der Sohn) gab, damit alle, (du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an ihn glauben, nicht verlohren werden (in der Hoelle) sondern das ewige Leb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ben (im Himmel)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Johannes 3:16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mb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22:32:40Z</dcterms:created>
  <dc:creator>R</dc:creator>
  <dc:description/>
  <dc:language>en-US</dc:language>
  <cp:lastModifiedBy> </cp:lastModifiedBy>
  <dcterms:modified xsi:type="dcterms:W3CDTF">2008-08-27T04:52:25Z</dcterms:modified>
  <cp:revision>235</cp:revision>
  <dc:subject/>
  <dc:title>SU PRECIOSA SANGRE</dc:title>
</cp:coreProperties>
</file>