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su%20preciosa%20sangre.wav" ContentType="audio/x-wav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3C6-56D7-4DC7-B82D-66C3FD6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05A-F20D-4BC3-A710-7B749FF6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F95-5722-4DA3-9808-87F8DCBA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FF-C0C9-4BF7-8F00-E13A4E1A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BD12-8E0C-4DF4-95B8-FBF09C6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35F9-9151-4539-A596-199A8E79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50B-F096-4D8B-B0D5-B4DBA91D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7ED2-DF35-40DB-9C81-1FCA94F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4C5-5543-4BD4-A889-9225C38D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05A-A29B-465A-9812-00E3304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BBCE-49C4-43A6-8128-90909A12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0B1-19C9-4BFA-8A69-7FB109E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22FA-3EDC-4CC4-9744-E8309FF8CC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image" Target="../media/image4.png"/><Relationship Id="rId7" Type="http://schemas.openxmlformats.org/officeDocument/2006/relationships/audio" Target="../media/su%20preciosa%20sangre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Bisel">
            <a:hlinkClick r:id="" action="ppaction://hlinkshowjump?jump=nextslide"/>
          </p:cNvPr>
          <p:cNvSpPr/>
          <p:nvPr/>
        </p:nvSpPr>
        <p:spPr>
          <a:xfrm>
            <a:off x="21420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1 Rectángulo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-49320" y="4943520"/>
            <a:ext cx="384012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3 Rectángulo" descr=""/>
          <p:cNvPicPr/>
          <p:nvPr/>
        </p:nvPicPr>
        <p:blipFill>
          <a:blip r:embed="rId3"/>
          <a:stretch/>
        </p:blipFill>
        <p:spPr>
          <a:xfrm>
            <a:off x="3670200" y="5041800"/>
            <a:ext cx="1779840" cy="1146240"/>
          </a:xfrm>
          <a:prstGeom prst="rect">
            <a:avLst/>
          </a:prstGeom>
          <a:ln w="0">
            <a:noFill/>
          </a:ln>
        </p:spPr>
      </p:pic>
      <p:sp>
        <p:nvSpPr>
          <p:cNvPr id="44" name="7 Bisel">
            <a:hlinkClick r:id="rId4" action="ppaction://hlinksldjump"/>
          </p:cNvPr>
          <p:cNvSpPr/>
          <p:nvPr/>
        </p:nvSpPr>
        <p:spPr>
          <a:xfrm>
            <a:off x="5389560" y="5214960"/>
            <a:ext cx="3357720" cy="928800"/>
          </a:xfrm>
          <a:prstGeom prst="bevel">
            <a:avLst>
              <a:gd name="adj" fmla="val 12500"/>
            </a:avLst>
          </a:prstGeom>
          <a:solidFill>
            <a:srgbClr val="68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8 Rectángulo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03880" y="4943520"/>
            <a:ext cx="3638520" cy="1238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7" name="su%20preciosa%20sangr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7"/>
          <p:cNvSpPr/>
          <p:nvPr/>
        </p:nvSpPr>
        <p:spPr>
          <a:xfrm>
            <a:off x="142920" y="4179960"/>
            <a:ext cx="8710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liebter Les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die Tuere zum Himmel hat er fuer dich aufget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vom Kreuz, aus am Calvarien Berg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Johannes 14:2).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Wirst du draussen bleiben?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Offenbarung 21:2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Oder nimmst du das Wort von Jesus Christus an? Der sagte:"Wer den Namen des Herrn anrufen wird, der s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gerettet werden"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(Apostelgeschichte 2:21; Roemer 10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214200" y="197280"/>
            <a:ext cx="288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Mit ehrlichkeit, bete dein eigenes gebet oder ieses:   </a:t>
            </a:r>
            <a:r>
              <a:rPr b="1" lang="de-DE" sz="2100" spc="-1" strike="noStrike">
                <a:solidFill>
                  <a:srgbClr val="ff0000"/>
                </a:solidFill>
                <a:latin typeface="Arial"/>
              </a:rPr>
              <a:t>Herr Jesus Christus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ich bekenne mit meinem Mund das du der Herr bist, und glaube in meinem Herzen das Gott dich von den Toten auferwekt hat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Roemer 10: 9,10)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Und ich erkuende  mich gerettet durch Glauben, weil du gesagt hast das es so sein wird</a:t>
            </a: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Epheser 2: 8,9)              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</a:rPr>
              <a:t>Du bist Gott und luegst nicht              </a:t>
            </a:r>
            <a:r>
              <a:rPr b="0" lang="de-DE" sz="1800" spc="-1" strike="noStrike">
                <a:solidFill>
                  <a:srgbClr val="ffff00"/>
                </a:solidFill>
                <a:latin typeface="Arial"/>
              </a:rPr>
              <a:t>(4 Mose 23: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9"/>
          <p:cNvSpPr/>
          <p:nvPr/>
        </p:nvSpPr>
        <p:spPr>
          <a:xfrm>
            <a:off x="0" y="38160"/>
            <a:ext cx="363528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Ich weiss das ich ein  Suender bin, und reumuetig gestehe ich dir,   das ich deine Verzeihung und Rettung brau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1 Johannes 1: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Bitte verzeihe mir und rette m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Von jetzt an nehme ich dich als meinen </a:t>
            </a:r>
            <a:r>
              <a:rPr b="1" lang="de-DE" sz="2800" spc="-1" strike="noStrike">
                <a:solidFill>
                  <a:srgbClr val="006600"/>
                </a:solidFill>
                <a:latin typeface="Arial"/>
              </a:rPr>
              <a:t>persöhnlichen Retter an und mache dich zu meinem Herr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8"/>
          <p:cNvSpPr/>
          <p:nvPr/>
        </p:nvSpPr>
        <p:spPr>
          <a:xfrm>
            <a:off x="0" y="210240"/>
            <a:ext cx="3678120" cy="62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Mein Herr und me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Gott Jesus Christu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danke dir das d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in herrliches Blut vergossen hast und fuer mich gestorben bis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Ich glaube das du am dritten Tage auferstanden bist zu meiner echtfertigung. U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anach aufgestieg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bist in den Himmel, woh du dich immer einsetzen wirst fuer mich v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cc0000"/>
                </a:solidFill>
                <a:latin typeface="Arial"/>
              </a:rPr>
              <a:t>dem Va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(Roemer 4:25; Lukas 24:6,7 und 5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660066"/>
                </a:solidFill>
                <a:latin typeface="Arial"/>
              </a:rPr>
              <a:t>1 Korinther 15:3,4; Hebraeer 7:2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990000"/>
                </a:solidFill>
                <a:latin typeface="Arial"/>
              </a:rPr>
              <a:t>Bitte hilf mir dir zu folgen bis zum Ende.  Am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654200" y="642960"/>
            <a:ext cx="6846840" cy="5472000"/>
          </a:xfrm>
          <a:prstGeom prst="rect">
            <a:avLst/>
          </a:prstGeom>
          <a:ln w="0">
            <a:noFill/>
          </a:ln>
        </p:spPr>
      </p:pic>
      <p:sp>
        <p:nvSpPr>
          <p:cNvPr id="69" name="2 Bisel">
            <a:hlinkClick r:id="" action="ppaction://hlinkshowjump?jump=endshow"/>
          </p:cNvPr>
          <p:cNvSpPr/>
          <p:nvPr/>
        </p:nvSpPr>
        <p:spPr>
          <a:xfrm>
            <a:off x="7500960" y="6215040"/>
            <a:ext cx="1571760" cy="500040"/>
          </a:xfrm>
          <a:prstGeom prst="bevel">
            <a:avLst>
              <a:gd name="adj" fmla="val 12500"/>
            </a:avLst>
          </a:pr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564320" y="6145200"/>
            <a:ext cx="1446480" cy="596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1"/>
          <p:cNvSpPr/>
          <p:nvPr/>
        </p:nvSpPr>
        <p:spPr>
          <a:xfrm>
            <a:off x="3143160" y="1368720"/>
            <a:ext cx="41767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Bitte Sende die Nachric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in die ganze Wel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Mach das sie nicht bai dir stopt. Und glaube sie, denn es ist die Wahrheit die dich frei macht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Johannes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"Gott segne dic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428760" y="435780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cc0000"/>
                </a:solidFill>
                <a:latin typeface="Comic Sans MS"/>
              </a:rPr>
              <a:t>HIS                                   PRECIOUS BLOO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9"/>
          <p:cNvSpPr/>
          <p:nvPr/>
        </p:nvSpPr>
        <p:spPr>
          <a:xfrm>
            <a:off x="0" y="470880"/>
            <a:ext cx="9144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Not even one eternal soul could be bought ever for heaven, neither with all the value of the indulgence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good works, sacrific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and offering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"/>
              </a:rPr>
              <a:t>of the most famous religions</a:t>
            </a: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(Mark 8: 36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428760" y="1422000"/>
            <a:ext cx="8351640" cy="50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ut the few litres of the precious blood that God the Son made man shed on the  cros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dying in our plac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were enough to clea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potencially the si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of all mank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(Matthew 26: 28;  Colossians 1: 14;  Hebrews 9: 22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6"/>
          <p:cNvSpPr/>
          <p:nvPr/>
        </p:nvSpPr>
        <p:spPr>
          <a:xfrm>
            <a:off x="5508720" y="2781360"/>
            <a:ext cx="3456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Nai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on the cross, still blee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for our sin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50920" y="189000"/>
            <a:ext cx="4032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Because the blood of Jesus Chris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his Son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purif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u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all s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John 1: 7)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"/>
          <p:cNvSpPr/>
          <p:nvPr/>
        </p:nvSpPr>
        <p:spPr>
          <a:xfrm>
            <a:off x="395280" y="404640"/>
            <a:ext cx="3816360" cy="40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the Creator of the univer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who has carried upon him the sins of every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1 Peter 2: 24),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28760" y="4786200"/>
            <a:ext cx="835164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(for all have sinned, and fall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of the glory of God) 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 Romans 3: 23 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ys: “It is finished" (fulfilled mission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(John 19: 30).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01 Pista 1.wma" descr=""/>
          <p:cNvPicPr/>
          <p:nvPr/>
        </p:nvPicPr>
        <p:blipFill>
          <a:blip r:embed="rId2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285840" y="4500720"/>
            <a:ext cx="86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c0000"/>
                </a:solidFill>
                <a:latin typeface="Comic Sans MS"/>
              </a:rPr>
              <a:t>SEIN      KOSTBARES BL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"/>
          <p:cNvSpPr/>
          <p:nvPr/>
        </p:nvSpPr>
        <p:spPr>
          <a:xfrm>
            <a:off x="250920" y="189000"/>
            <a:ext cx="8208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 this way  he pays with his preciou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lood our debt, and put at our disposal the reconciliation with God the F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1 Peter 1: 18, 19;  Hebrews 10: 10 – 14;  2 Corinthians 5: 18, 19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Romans 5: 9 – 11;  Colossians 1: 20 – 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476360" y="4653000"/>
            <a:ext cx="734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Since then, every person who receives the sacrifice of the Lamb of God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ffff00"/>
                </a:solidFill>
                <a:latin typeface="Arial"/>
              </a:rPr>
              <a:t>(Jesus Christ)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8"/>
          <p:cNvSpPr/>
          <p:nvPr/>
        </p:nvSpPr>
        <p:spPr>
          <a:xfrm>
            <a:off x="214200" y="785880"/>
            <a:ext cx="3240360" cy="50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s compl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nd suffici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od love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adopts him as a son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give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eternal life in the kingd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of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John 1: 29 and 1: 1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357120" y="785880"/>
            <a:ext cx="2533680" cy="58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y be  you don´t underst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much l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rom hi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owever, it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fact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God (the Fath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so loved the worl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hat he gave us 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nly begotten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Jesus, God the Son), that who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(you) belie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in him sh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not perish (in hell)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ut have e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life (in heaven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John 3: 16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250920" y="4365720"/>
            <a:ext cx="87138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Beloved read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He opened for you the doors of heaven from the cross of Golgotha!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John 14: 2) 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ill you stay outside?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Revelation 21: 27).</a:t>
            </a: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Or will you take the word of Jesus? That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whoever  calls on the name of the Lord shall be sa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cc"/>
                </a:solidFill>
                <a:latin typeface="Arial"/>
              </a:rPr>
              <a:t>                               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Acts 2: 21;  Romans 10: 13).</a:t>
            </a:r>
            <a:r>
              <a:rPr b="0" lang="es-ES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250920" y="78840"/>
            <a:ext cx="280836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ith sincerity, say your own prayer,        or pray like this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Lord Jesus,                 I confess with my mouth that you are the Lord, and I believe in my heart that God raised you from the dead                       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Romans 10: 9, 10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d I proclaim myself saved by faith, because you have said that             I would be so                                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Ephesians 2: 8, 9)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ou are God          and you don´t lie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(Numbers 23: 19).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ver dir="d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513360"/>
            <a:ext cx="3780000" cy="63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know that I 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 sinner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repenta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confess th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I need forg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salv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1 John 1: 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lease, forgive me and save 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From now I receive you as 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personal Sav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and I make yo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9999"/>
                </a:solidFill>
                <a:latin typeface="Arial"/>
              </a:rPr>
              <a:t>my Lord.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214200" y="269640"/>
            <a:ext cx="328608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My Lord and m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Jesus Chri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thank you for having   shed your precious     blood and having          been dead for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 believe that on the third day you were raised from the dead for my justif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and after you w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taken up into heav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where you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intercede for me in the presence of the Father</a:t>
            </a:r>
            <a:r>
              <a:rPr b="1" lang="es-ES" sz="20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0066"/>
                </a:solidFill>
                <a:latin typeface="Arial"/>
              </a:rPr>
              <a:t>(Romans 4: 25;  Luke 24: 6, 7 and 51; 1 Corinthians 15: 3, 4;  Hebrews 7: 25) .</a:t>
            </a:r>
            <a:r>
              <a:rPr b="0" lang="es-ES" sz="1400" spc="-1" strike="noStrike">
                <a:solidFill>
                  <a:srgbClr val="cc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Please, help me to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faithful to you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the end.  Amé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HABADEUS\Mis documentos\HABADEUS\corel\imagenes presentacioness mayo 2007\Imagen7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HABADEUS\Mis documentos\HABADEUS\corel\imagenes presentacioness mayo 2007\Imagen125.png"/>
          <p:cNvPicPr/>
          <p:nvPr/>
        </p:nvPicPr>
        <p:blipFill>
          <a:blip r:embed="rId2"/>
          <a:stretch/>
        </p:blipFill>
        <p:spPr>
          <a:xfrm>
            <a:off x="1785960" y="1143000"/>
            <a:ext cx="6954840" cy="5072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1"/>
          <p:cNvSpPr/>
          <p:nvPr/>
        </p:nvSpPr>
        <p:spPr>
          <a:xfrm>
            <a:off x="3143160" y="1726920"/>
            <a:ext cx="47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lease,  send it to everybod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Don’t let this mess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0000"/>
                </a:solidFill>
                <a:latin typeface="Arial"/>
              </a:rPr>
              <a:t>stop in you, and believe it, because it is the truth, and the truth shall make you fre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John 8:3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GOD BLESS YOU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8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385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9"/>
          <p:cNvSpPr/>
          <p:nvPr/>
        </p:nvSpPr>
        <p:spPr>
          <a:xfrm>
            <a:off x="0" y="44064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ffff"/>
                </a:solidFill>
                <a:latin typeface="Arial"/>
              </a:rPr>
              <a:t>Nicht mit dem ganzen wert aller Busgelder, Werke, Opfergaben und Spenden, aller beruehmten Religionen,Wahr es moeglich, auch nur eine einzige, ewige Seele  fuer den Himmel zu kaufen </a:t>
            </a: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 Markus 8:36 )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214200" y="454320"/>
            <a:ext cx="867564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er die wenigen Liter seines kostbaren Blutes,die Gott der Sohn,vergossen hatte und dort an unserer Stelle gestorben ist, wahren ausreichend um Potenziell alle Suenden der ganzen Menschheit zu reini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00"/>
                </a:solidFill>
                <a:latin typeface="Arial"/>
              </a:rPr>
              <a:t>(Matthaeus 26:28; Kolosser 1:14; Hebraeer 9:2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5786280" y="3071880"/>
            <a:ext cx="307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enagelt ans Kreuz, no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aus blut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fuer unsere Suend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189000"/>
            <a:ext cx="382104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Den das Bl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von Jesus Christ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ott der Sohn, reinigt uns von jeder Su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(1 Johannes 1: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285840" y="357120"/>
            <a:ext cx="316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er Schoepfer des Universums, der auf sich genommen hat, die Su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von all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2:2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14200" y="4857840"/>
            <a:ext cx="8498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weil alle gesuendigt haben und sind enthoben von der herrlichkeit Gottes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Roemer 3:2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sagte:"Es ist vollbracht"(Mission vollendet).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9:3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928800" y="4724280"/>
            <a:ext cx="745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eit dem sind alle Personen, die das Opfer des Opferla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Gottes(Jesus </a:t>
            </a:r>
            <a:r>
              <a:rPr b="1" lang="de-DE" sz="3600" spc="-1" strike="noStrike">
                <a:solidFill>
                  <a:srgbClr val="ffff00"/>
                </a:solidFill>
                <a:latin typeface="Arial"/>
              </a:rPr>
              <a:t>Christ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539640" y="333360"/>
            <a:ext cx="8064720" cy="23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"/>
              </a:rPr>
              <a:t>So zahlte sein kostbares Blut unsere Schuld und hat uns die Reichweite zur Versoehnung mit Gott dem Vater gegeben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1 Petrus 1:18,19;  Hebraeer 10:10,14;  2 Korinther 5:18,19; Roemer 5:9 bis 11;  Kolosser 2:20,2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2000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8"/>
          <p:cNvSpPr/>
          <p:nvPr/>
        </p:nvSpPr>
        <p:spPr>
          <a:xfrm>
            <a:off x="179280" y="692280"/>
            <a:ext cx="353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fuer kommpl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und genuegend angenommen haben, von Gott aus Liebe zu seine kindern adoptiert worden und 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hat ihnen 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ewige Leben im Himmelreich gegeb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00"/>
                </a:solidFill>
                <a:latin typeface="Arial"/>
              </a:rPr>
              <a:t>(Johannes 1:29 und 1: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checke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HABADEUS\Mis documentos\HABADEUS\corel\imagenes presentacioness mayo 2007\ImagenTTT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4200" y="825480"/>
            <a:ext cx="31435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kann sein, 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 so viel Lie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seiner Se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versteh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trozdem 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 eine atsa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den also hat Got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der Vater) die Welt geliebt, das es seinen eingeborenen Sohn (Jesus, Gott der Sohn) gab, damit alle, (d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 ihn glauben, nicht verlohren werden (in der Hoelle) sondern das ewige Leb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ben (im Himmel)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Johannes 3:16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3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 </cp:lastModifiedBy>
  <dcterms:modified xsi:type="dcterms:W3CDTF">2008-08-27T04:52:25Z</dcterms:modified>
  <cp:revision>235</cp:revision>
  <dc:subject/>
  <dc:title>SU PRECIOSA SANGRE</dc:title>
</cp:coreProperties>
</file>