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30D-BCB5-4136-912B-00356707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3EE-A2BE-42E9-B3B0-13EB5C61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B6F-021E-4D77-B68E-CB0C5559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231-9F02-4BB9-B34A-63DDF2E1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FDD-8887-4F04-A168-1C48BEC4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943-CF3D-438D-A69A-1A1D953D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406-2DF5-4390-A866-98E5F3DC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3C7-132A-44EA-88E5-47EAC184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4C5-8398-48B9-A5D2-29C96170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176-C664-442C-8A8B-28D82C75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0C0-C108-4F68-8EAE-50A2F11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34B-7F08-41F5-A83B-B0FC3A5A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7263-335B-41D4-9119-9AFC831A32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87280" y="549360"/>
            <a:ext cx="6859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1 Pista 1.wma" descr=""/>
          <p:cNvPicPr/>
          <p:nvPr/>
        </p:nvPicPr>
        <p:blipFill>
          <a:blip r:embed="rId1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32000" y="5445000"/>
            <a:ext cx="64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他 宝 贵 的 鲜 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839160"/>
            <a:ext cx="341964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诚 心 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天 父 耶 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口 里 认 耶 稣 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 里 信 神 叫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他 从 死 里 复 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罗 马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10: 9, 10)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宋体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我 宣 布 遇 救 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因 为 信 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因 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你 说 这 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以 弗 所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: 8, 9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你 是 上 帝 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不 致 说 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民 数 记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3: 19)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1189440"/>
            <a:ext cx="28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是 罪 人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悔 改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宽 恕 我</a:t>
            </a:r>
            <a:r>
              <a:rPr b="0" lang="zh-CN" sz="3600" spc="-1" strike="noStrike">
                <a:solidFill>
                  <a:srgbClr val="00cc99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一 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9)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接 受 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是 我 的 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世 主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是 我 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上 帝 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388440"/>
            <a:ext cx="331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的 上 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 耶 稣 基 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 谢 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 为 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 木 头 上 流 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 我 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相 信 三 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 后 你 复 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 我 辩 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 后 上 升 天 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 我 父 面 前 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祈 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罗 马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4: 25 -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路 加 福 音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4: 6, 7, 51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哥 林 多 前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15: 3, 4 –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希 伯 来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7: 25)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 助 我 忠 于 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阿 们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1228800">
            <a:off x="681120" y="904680"/>
            <a:ext cx="7413480" cy="525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21322800">
            <a:off x="2782440" y="1794600"/>
            <a:ext cx="417672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递 送 全 球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!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我 请 你 不 停 止 请 你 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信 真 理 真 理 必 叫 你 们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得 以 自 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约 翰 福 音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8: 32)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上 帝 祝 福 你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  <a:ea typeface="宋体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4606920" y="333360"/>
            <a:ext cx="155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2478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967280" cy="245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2050920" cy="202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50920" y="2421000"/>
            <a:ext cx="2233800" cy="201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6072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284720" y="2421000"/>
            <a:ext cx="4859280" cy="443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0" y="4437000"/>
            <a:ext cx="209556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050920" y="4437000"/>
            <a:ext cx="3025800" cy="24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16200000">
            <a:off x="1359720" y="5416920"/>
            <a:ext cx="216036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Unicode MS"/>
              </a:rPr>
              <a:t>SEMIRAM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Unicode MS"/>
              <a:ea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836640"/>
            <a:ext cx="8424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不 能 运 用 全 部 价 值 来 特 赦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工 作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祭 祀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著 名 的 宗 教 捐 项  能 购 买 一 个 永 生 灵 魂 给 天 堂</a:t>
            </a:r>
            <a:r>
              <a:rPr b="1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马 可 福 音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8: 36)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1918440"/>
            <a:ext cx="83516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但 是 五 或 六 升 宝 贵 的 鲜 血 神 的 儿 子 成 为 人 的 样 式 流 血 在 十 字 架 上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死 在 我 们 的 位 置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足 够 能 胜 任 洗 涤 一 切 人 类 的 罪 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马 太 福 音 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26: 28 -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歌 罗 西 书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: 14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希 伯 来 书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 22)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12000" y="371628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钉 在 十 字 架 上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流 血 为 我 们 的 罪 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280836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因 为 他 儿 子 耶 稣 的 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也 洗 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我 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 切 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约 翰 一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7)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333360"/>
            <a:ext cx="345600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宇 宙 的 创 世 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他 被 挂 在 木 头 上 亲 身 担 当 了 我 们 的 罪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彼 得 前 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2: 24),</a:t>
            </a:r>
            <a:r>
              <a:rPr b="0" lang="es-ES" sz="24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148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005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因 为 世 人 都 犯 了 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亏 缺 了 神 的 荣 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罗 马 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3: 23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成 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完 成 使 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19: 30)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                                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84720" y="404640"/>
            <a:ext cx="305928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此 后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一 切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人 类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接 受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神 的 羔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羊 祭 祀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3800" spc="-1" strike="noStrike">
                <a:solidFill>
                  <a:srgbClr val="ffff00"/>
                </a:solidFill>
                <a:latin typeface="Arial"/>
                <a:ea typeface="宋体"/>
              </a:rPr>
              <a:t>耶 稣 基 督</a:t>
            </a:r>
            <a:r>
              <a:rPr b="0" lang="en-US" sz="3800" spc="-1" strike="noStrike">
                <a:solidFill>
                  <a:srgbClr val="ffff00"/>
                </a:solidFill>
                <a:latin typeface="Arial"/>
                <a:ea typeface="宋体"/>
              </a:rPr>
              <a:t>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9000"/>
            <a:ext cx="453708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就 这 样 还 债 用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他 宝 贵 的 鲜 血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他 借 着 基 督 使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我 们 与 他 和 好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又 将 劝 人 与 他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和 好 的 职 分 赐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给 我 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彼 得 前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8, 19 –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希 伯 来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0: 10, 14 -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哥 林 多 后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5: 18, 19 – 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罗 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5: 9 - 11 -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歌 罗 西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20 - 22)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549360"/>
            <a:ext cx="23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因 全 部 足 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上 帝 认 养 热 烈 爱 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给 我 永 生 在 天 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29 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1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836640"/>
            <a:ext cx="27352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 能 不 明 白 他 的 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但 是 这 是 事 实 因 为“神 爱 世 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甚 至 将 他 的 独 生 子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耶 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赐 给 他 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叫 一 切 信 他 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 至 灭 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 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 得 永 生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 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3:16)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508640"/>
            <a:ext cx="8569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亲 爱 的 读 者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他   在 十 字 架 上   打 开 天 堂  的  门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约 翰 福 音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14: 2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你 留 在 外 面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?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启 示 录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21: 27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. 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或  接 受 他 的 话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?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说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: “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到 那 时 候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凡 求 告 主 名 的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就 必 得 救 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使 徒 行 传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2: 21 -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罗 马 书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10: 13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” 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。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22:32:40Z</dcterms:created>
  <dc:creator>R</dc:creator>
  <dc:description/>
  <dc:language>en-US</dc:language>
  <cp:lastModifiedBy>Usuario</cp:lastModifiedBy>
  <dcterms:modified xsi:type="dcterms:W3CDTF">2008-03-12T22:10:04Z</dcterms:modified>
  <cp:revision>189</cp:revision>
  <dc:subject/>
  <dc:title>SU PRECIOSA SANGRE</dc:title>
</cp:coreProperties>
</file>