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558-CEC4-4179-AC95-F9A3A4C4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ED2E-22B5-4492-B56A-CD6AE6E5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5F6-34AD-459D-A290-A5BDC650E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F8B-5E1B-4862-BB2A-36C29DDB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46A-DF73-40E0-89FB-87884B45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820-DD11-4A0B-9348-919400AE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632C-676B-4070-94C4-955C6FC2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3AC-5A8B-4491-A66C-EB5B3FB3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8A6-E32E-447A-8A02-80FEE7BF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395-0F01-412A-992E-4AF7EF39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939-1EA4-4B2B-882A-8479D0FB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B05-2974-4660-9773-BCF14EAB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9459-ABCF-4A6A-BCF6-BAFCE2D7E5B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87280" y="549360"/>
            <a:ext cx="68598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1 Pista 1.wma" descr=""/>
          <p:cNvPicPr/>
          <p:nvPr/>
        </p:nvPicPr>
        <p:blipFill>
          <a:blip r:embed="rId1"/>
          <a:stretch/>
        </p:blipFill>
        <p:spPr>
          <a:xfrm>
            <a:off x="9063000" y="6777000"/>
            <a:ext cx="81000" cy="81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332000" y="5445000"/>
            <a:ext cx="64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他 宝 贵 的 鲜 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839160"/>
            <a:ext cx="3419640" cy="54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诚 心 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天 父 耶 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口 里 认 耶 稣 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心 里 信 神 叫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他 从 死 里 复 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罗 马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10: 9, 10)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宋体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我 宣 布 遇 救 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因 为 信 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因 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你 说 这 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以 弗 所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2: 8, 9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你 是 上 帝 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不 致 说 谎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民 数 记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23: 19)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1189440"/>
            <a:ext cx="28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我 是 罪 人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我 悔 改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宽 恕 我</a:t>
            </a:r>
            <a:r>
              <a:rPr b="0" lang="zh-CN" sz="3600" spc="-1" strike="noStrike">
                <a:solidFill>
                  <a:srgbClr val="00cc99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 翰 一 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: 9)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我 接 受 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是 我 的 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世 主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  <a:ea typeface="宋体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是 我 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  <a:ea typeface="宋体"/>
              </a:rPr>
              <a:t>上 帝 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388440"/>
            <a:ext cx="331308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的 上 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主 耶 稣 基 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 谢 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 为 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 木 头 上 流 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 我 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相 信 三 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之 后 你 复 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 我 辩 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之 后 上 升 天 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 我 父 面 前 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我 祈 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罗 马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4: 25 -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路 加 福 音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24: 6, 7, 51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哥 林 多 前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15: 3, 4 –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希 伯 来 书 </a:t>
            </a:r>
            <a:r>
              <a:rPr b="0" lang="en-US" sz="2200" spc="-1" strike="noStrike">
                <a:solidFill>
                  <a:srgbClr val="660066"/>
                </a:solidFill>
                <a:latin typeface="Arial"/>
                <a:ea typeface="宋体"/>
              </a:rPr>
              <a:t>7: 25) </a:t>
            </a:r>
            <a:r>
              <a:rPr b="0" lang="zh-CN" sz="2200" spc="-1" strike="noStrike">
                <a:solidFill>
                  <a:srgbClr val="660066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 助 我 忠 于 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阿 们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 rot="1228800">
            <a:off x="681120" y="904680"/>
            <a:ext cx="7413480" cy="525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21322800">
            <a:off x="2782440" y="1794600"/>
            <a:ext cx="417672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递 送 全 球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!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我 请 你 不 停 止 请 你 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信 真 理 真 理 必 叫 你 们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得 以 自 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约 翰 福 音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8: 32)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Arial"/>
                <a:ea typeface="宋体"/>
              </a:rPr>
              <a:t>上 帝 祝 福 你</a:t>
            </a:r>
            <a:r>
              <a:rPr b="1" lang="en-US" sz="3000" spc="-1" strike="noStrike">
                <a:solidFill>
                  <a:srgbClr val="0033cc"/>
                </a:solidFill>
                <a:latin typeface="Arial"/>
                <a:ea typeface="宋体"/>
              </a:rPr>
              <a:t>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4606920" y="333360"/>
            <a:ext cx="1555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2050920" cy="2478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4967280" cy="2457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421000"/>
            <a:ext cx="2050920" cy="202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050920" y="2421000"/>
            <a:ext cx="2233800" cy="201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16072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284720" y="2421000"/>
            <a:ext cx="4859280" cy="443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0" y="4437000"/>
            <a:ext cx="2095560" cy="242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050920" y="4437000"/>
            <a:ext cx="3025800" cy="2421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16200000">
            <a:off x="1359720" y="5416920"/>
            <a:ext cx="216036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Unicode MS"/>
              </a:rPr>
              <a:t>SEMIRAMI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Unicode MS"/>
              <a:ea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836640"/>
            <a:ext cx="8424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不 能 运 用 全 部 价 值 来 特 赦</a:t>
            </a:r>
            <a:r>
              <a:rPr b="0" lang="en-US" sz="7000" spc="-1" strike="noStrike">
                <a:solidFill>
                  <a:srgbClr val="66ffff"/>
                </a:solidFill>
                <a:latin typeface="Arial"/>
                <a:ea typeface="宋体"/>
              </a:rPr>
              <a:t>,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工 作</a:t>
            </a:r>
            <a:r>
              <a:rPr b="0" lang="en-US" sz="7000" spc="-1" strike="noStrike">
                <a:solidFill>
                  <a:srgbClr val="66ffff"/>
                </a:solidFill>
                <a:latin typeface="Arial"/>
                <a:ea typeface="宋体"/>
              </a:rPr>
              <a:t>,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祭 祀</a:t>
            </a:r>
            <a:r>
              <a:rPr b="0" lang="en-US" sz="7000" spc="-1" strike="noStrike">
                <a:solidFill>
                  <a:srgbClr val="66ffff"/>
                </a:solidFill>
                <a:latin typeface="Arial"/>
                <a:ea typeface="宋体"/>
              </a:rPr>
              <a:t>, </a:t>
            </a:r>
            <a:r>
              <a:rPr b="0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著 名 的 宗 教 捐 项  能 购 买 一 个 永 生 灵 魂 给 天 堂</a:t>
            </a:r>
            <a:r>
              <a:rPr b="1" lang="zh-CN" sz="7000" spc="-1" strike="noStrike">
                <a:solidFill>
                  <a:srgbClr val="66ffff"/>
                </a:solidFill>
                <a:latin typeface="Arial"/>
                <a:ea typeface="宋体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马 可 福 音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8: 36)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4000" y="1918440"/>
            <a:ext cx="83516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但 是 五 或 六 升 宝 贵 的 鲜 血 神 的 儿 子 成 为 人 的 样 式 流 血 在 十 字 架 上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死 在 我 们 的 位 置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足 够 能 胜 任 洗 涤 一 切 人 类 的 罪 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马 太 福 音 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26: 28 -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歌 罗 西 书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1: 14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希 伯 来 书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9: 22) 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3382920"/>
            <a:ext cx="698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12000" y="371628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钉 在 十 字 架 上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流 血 为 我 们 的 罪 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60280"/>
            <a:ext cx="280836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因 为 他 儿 子 耶 稣 的 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也 洗 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我 们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 切 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约 翰 一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: 7)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333360"/>
            <a:ext cx="345600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宇 宙 的 创 世 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他 被 挂 在 木 头 上 亲 身 担 当 了 我 们 的 罪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彼 得 前 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2: 24),</a:t>
            </a:r>
            <a:r>
              <a:rPr b="0" lang="es-ES" sz="2400" spc="-1" strike="noStrike">
                <a:solidFill>
                  <a:srgbClr val="0066cc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1480" y="428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005360"/>
            <a:ext cx="849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因 为 世 人 都 犯 了 罪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亏 缺 了 神 的 荣 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罗 马 书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3: 23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成 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完 成 使 命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约 翰 福 音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19: 30) 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Arial"/>
              </a:rPr>
              <a:t>                                         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84720" y="404640"/>
            <a:ext cx="305928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此 后</a:t>
            </a:r>
            <a:r>
              <a:rPr b="0" lang="en-US" sz="38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一 切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人 类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接 受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神 的 羔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     </a:t>
            </a:r>
            <a:r>
              <a:rPr b="0" lang="zh-CN" sz="3800" spc="-1" strike="noStrike">
                <a:solidFill>
                  <a:srgbClr val="ff0000"/>
                </a:solidFill>
                <a:latin typeface="Arial"/>
                <a:ea typeface="宋体"/>
              </a:rPr>
              <a:t>羊 祭 祀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3800" spc="-1" strike="noStrike">
                <a:solidFill>
                  <a:srgbClr val="ffff00"/>
                </a:solidFill>
                <a:latin typeface="Arial"/>
                <a:ea typeface="宋体"/>
              </a:rPr>
              <a:t>耶 稣 基 督</a:t>
            </a:r>
            <a:r>
              <a:rPr b="0" lang="en-US" sz="3800" spc="-1" strike="noStrike">
                <a:solidFill>
                  <a:srgbClr val="ffff00"/>
                </a:solidFill>
                <a:latin typeface="Arial"/>
                <a:ea typeface="宋体"/>
              </a:rPr>
              <a:t>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89000"/>
            <a:ext cx="453708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就 这 样 还 债 用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他 宝 贵 的 鲜 血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他 借 着 基 督 使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我 们 与 他 和 好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又 将 劝 人 与 他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和 好 的 职 分 赐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Arial"/>
                <a:ea typeface="宋体"/>
              </a:rPr>
              <a:t>给 我 们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彼 得 前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8, 19 –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希 伯 来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0: 10, 14 -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哥 林 多 后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5: 18, 19 – 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罗 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5: 9 - 11 -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歌 罗 西 书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1: 20 - 22) 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549360"/>
            <a:ext cx="23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因 全 部 足 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上 帝 认 养 热 烈 爱 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给 我 永 生 在 天 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 翰 福 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: 29 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约 翰 福 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: 12)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24000" y="836640"/>
            <a:ext cx="273528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 能 不 明 白 他 的 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但 是 这 是 事 实 因 为“神 爱 世 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甚 至 将 他 的 独 生 子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耶 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赐 给 他 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叫 一 切 信 他 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 至 灭 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 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,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 得 永 生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天 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约 翰 福 音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3:16)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508640"/>
            <a:ext cx="8569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亲 爱 的 读 者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,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他   在 十 字 架 上   打 开 天 堂  的  门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约 翰 福 音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14: 2)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你 留 在 外 面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?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启 示 录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21: 27)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宋体"/>
              </a:rPr>
              <a:t>. 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或  接 受 他 的 话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?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说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: “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到 那 时 候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凡 求 告 主 名 的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宋体"/>
              </a:rPr>
              <a:t>, </a:t>
            </a:r>
            <a:r>
              <a:rPr b="0" lang="zh-CN" sz="2600" spc="-1" strike="noStrike">
                <a:solidFill>
                  <a:srgbClr val="0033cc"/>
                </a:solidFill>
                <a:latin typeface="Arial"/>
                <a:ea typeface="宋体"/>
              </a:rPr>
              <a:t>就 必 得 救 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(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使 徒 行 传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2: 21 -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罗 马 书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10: 13)</a:t>
            </a:r>
            <a:r>
              <a:rPr b="0" lang="en-US" sz="2600" spc="-1" strike="noStrike">
                <a:solidFill>
                  <a:srgbClr val="0066ff"/>
                </a:solidFill>
                <a:latin typeface="Arial"/>
                <a:ea typeface="宋体"/>
              </a:rPr>
              <a:t>” </a:t>
            </a:r>
            <a:r>
              <a:rPr b="0" lang="zh-CN" sz="2600" spc="-1" strike="noStrike">
                <a:solidFill>
                  <a:srgbClr val="0066ff"/>
                </a:solidFill>
                <a:latin typeface="Arial"/>
                <a:ea typeface="宋体"/>
              </a:rPr>
              <a:t>。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22:32:40Z</dcterms:created>
  <dc:creator>R</dc:creator>
  <dc:description/>
  <dc:language>en-US</dc:language>
  <cp:lastModifiedBy>Usuario</cp:lastModifiedBy>
  <dcterms:modified xsi:type="dcterms:W3CDTF">2008-03-12T22:10:04Z</dcterms:modified>
  <cp:revision>189</cp:revision>
  <dc:subject/>
  <dc:title>SU PRECIOSA SANGRE</dc:title>
</cp:coreProperties>
</file>