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permiteme%20salvarte%20ok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9FF-E570-4E9F-9DD3-075476CF6F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3D6-0EEF-474A-86EC-1126659AEC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98C-4EFB-45E8-A2B1-89B2B6C7DC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B30-1E14-4147-9DD5-3BD9B22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949-C412-4FF9-8424-0C02BB9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F70-5971-4955-AF73-E65C5911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0B3-7BB5-4080-BE69-8FDD27DC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0DB-269B-4B63-9510-60BD794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559-F97A-4973-82D6-655DEBA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837-3F99-4F25-814A-B77C3CC8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E05-6105-4F09-9F0E-D19F4A6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5F0-F684-47B2-A5DC-B568B8C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307-4D5D-4843-B280-9DE968E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325-6642-4CE1-AC1C-ECD5749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24A-57E3-4703-9686-7963E1A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0D3-3DD4-457D-B02A-E5F2FC94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" Target="slide2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ermiteme%20salvarte%20o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3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2 Bisel"/>
          <p:cNvGrpSpPr/>
          <p:nvPr/>
        </p:nvGrpSpPr>
        <p:grpSpPr>
          <a:xfrm>
            <a:off x="5732640" y="5373720"/>
            <a:ext cx="2828880" cy="1401840"/>
            <a:chOff x="5732640" y="5373720"/>
            <a:chExt cx="2828880" cy="1401840"/>
          </a:xfrm>
        </p:grpSpPr>
        <p:pic>
          <p:nvPicPr>
            <p:cNvPr id="49" name="2 Bise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732640" y="5373720"/>
              <a:ext cx="28288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0228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4 Rectángul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5599080"/>
            <a:ext cx="284004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6 Rectángulo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892680" y="5587920"/>
            <a:ext cx="1492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3" name="7 Bisel"/>
          <p:cNvGrpSpPr/>
          <p:nvPr/>
        </p:nvGrpSpPr>
        <p:grpSpPr>
          <a:xfrm>
            <a:off x="563400" y="5373720"/>
            <a:ext cx="2822400" cy="1401840"/>
            <a:chOff x="563400" y="5373720"/>
            <a:chExt cx="2822400" cy="1401840"/>
          </a:xfrm>
        </p:grpSpPr>
        <p:pic>
          <p:nvPicPr>
            <p:cNvPr id="54" name="7 Bisel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563400" y="5373720"/>
              <a:ext cx="2822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160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8 Rectángulo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01480" y="5526000"/>
            <a:ext cx="2975040" cy="944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9" name="permiteme%20salvarte%20o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2 Rectángulo"/>
          <p:cNvSpPr/>
          <p:nvPr/>
        </p:nvSpPr>
        <p:spPr>
          <a:xfrm>
            <a:off x="2571840" y="285840"/>
            <a:ext cx="62863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uaren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ías despué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í al cie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  presen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 mis discípul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Lucas 24: 50, 51; Hechos 1: 2, 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214200" y="78588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u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m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on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e gloria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5357880" y="1071720"/>
            <a:ext cx="378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 el palacio real del univer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Apocalipsis 21: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214200" y="282600"/>
            <a:ext cx="864396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y Rey de re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Señor de señor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el primero y el último, el que estuvo muerto y vivió, y vivo por los siglos. Amén.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(Apocalipsis 1:18; 2:8; 19:1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4 Rectángulo"/>
          <p:cNvSpPr/>
          <p:nvPr/>
        </p:nvSpPr>
        <p:spPr>
          <a:xfrm>
            <a:off x="214200" y="285840"/>
            <a:ext cx="5429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99ff"/>
                </a:solidFill>
                <a:latin typeface="Comic Sans MS"/>
              </a:rPr>
              <a:t>M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 ha sido dada toda autoridad en el cielo y en la tierra </a:t>
            </a:r>
            <a:r>
              <a:rPr b="0" lang="es-ES" sz="2200" spc="-1" strike="noStrike">
                <a:solidFill>
                  <a:srgbClr val="3399ff"/>
                </a:solidFill>
                <a:latin typeface="Comic Sans MS"/>
              </a:rPr>
              <a:t>(Mateo 28:18).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ambién ejerzo de abogado defensor ante el Padre, para los que han creído que yo soy quien digo, y me han  recibido por Salvador personal y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240" y="6286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(1 Juan 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0" y="214200"/>
            <a:ext cx="46432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sucitaré en mi segunda venida a los que hayan muerto creyendo en mí, y les daré un cuerpo de gloria como el mí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Rectángulo"/>
          <p:cNvSpPr/>
          <p:nvPr/>
        </p:nvSpPr>
        <p:spPr>
          <a:xfrm>
            <a:off x="0" y="285840"/>
            <a:ext cx="50007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s que crean en mí y estén vivos también recibirán un cuerpo de gloria, subirán a recibirme en el aire para estar  siempre conmigo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1Tesalonicenses 4: 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4071960" y="428760"/>
            <a:ext cx="50720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o te pierdas la gloria eterna para la cual      te formé amorosamente con mis manos, y te di mi vida con tanto amo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Rectángulo"/>
          <p:cNvSpPr/>
          <p:nvPr/>
        </p:nvSpPr>
        <p:spPr>
          <a:xfrm>
            <a:off x="1357200" y="428760"/>
            <a:ext cx="7786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f2f2f2"/>
                </a:solidFill>
                <a:latin typeface="Comic Sans MS"/>
              </a:rPr>
              <a:t>ídeme perdón y salvación, porque solo esto debes hacer para que yo te perdone y te salve ahora mis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(Hechos 2: 21)</a:t>
            </a: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Rectángulo"/>
          <p:cNvSpPr/>
          <p:nvPr/>
        </p:nvSpPr>
        <p:spPr>
          <a:xfrm>
            <a:off x="0" y="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ado, ora con fe: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eñor </a:t>
            </a:r>
            <a:r>
              <a:rPr b="1" lang="en-US" sz="5400" spc="-1" strike="noStrike">
                <a:solidFill>
                  <a:srgbClr val="00ff00"/>
                </a:solidFill>
                <a:latin typeface="Comic Sans MS"/>
              </a:rPr>
              <a:t>Jesús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, soy pecador y me arrepiento. He oído tu voz y te he creído; por favor, perdóname, y sálvame de la ira venidera en el lago de fue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Juan 3: 3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Rectángulo"/>
          <p:cNvSpPr/>
          <p:nvPr/>
        </p:nvSpPr>
        <p:spPr>
          <a:xfrm rot="20677200">
            <a:off x="1145160" y="1064880"/>
            <a:ext cx="65343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cribe mi nombre en el libro de la vida en el cielo, porque yo anhelo vivir eternamente contigo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Apocalipsis 20: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71280" y="3714840"/>
            <a:ext cx="8929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¡ PERMITEM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SALVARTE 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Rectángulo"/>
          <p:cNvSpPr/>
          <p:nvPr/>
        </p:nvSpPr>
        <p:spPr>
          <a:xfrm>
            <a:off x="500040" y="214200"/>
            <a:ext cx="84297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sde este momento te tomo la palabra, y me proclamo salvado por la fe en tu precioso Nombre, porque tú has dicho que así lo sería. Eres Dios y no mientes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Números 23: 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Rectángulo"/>
          <p:cNvSpPr/>
          <p:nvPr/>
        </p:nvSpPr>
        <p:spPr>
          <a:xfrm>
            <a:off x="0" y="21420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10f8e"/>
                </a:solidFill>
                <a:latin typeface="Comic Sans MS"/>
              </a:rPr>
              <a:t>S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eñor mío, Creador mío y Dios mío </a:t>
            </a:r>
            <a:r>
              <a:rPr b="1" lang="en-US" sz="5600" spc="-1" strike="noStrike">
                <a:solidFill>
                  <a:srgbClr val="ff0000"/>
                </a:solidFill>
                <a:latin typeface="Comic Sans MS"/>
              </a:rPr>
              <a:t>Jesucristo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, te doy las gracias por haberme perdonado, y salvado solamente por creerte, y pedirte perdón y salvación por fe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Rectángulo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¡</a:t>
            </a:r>
            <a:r>
              <a:rPr b="1" lang="es-ES" sz="5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or favor, mánda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a todo el mun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no se pare en t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y crée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porque es la ver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te hará lib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3333ff"/>
                </a:solidFill>
                <a:latin typeface="Bookman Old Style"/>
              </a:rPr>
              <a:t>(Juan 8: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324000" y="4581360"/>
            <a:ext cx="84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¡DIOS TE BENDIG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Bisel">
            <a:hlinkClick r:id="rId2" action="ppaction://hlinksldjump"/>
          </p:cNvPr>
          <p:cNvSpPr/>
          <p:nvPr/>
        </p:nvSpPr>
        <p:spPr>
          <a:xfrm>
            <a:off x="7451640" y="6021360"/>
            <a:ext cx="1549440" cy="660600"/>
          </a:xfrm>
          <a:prstGeom prst="bevel">
            <a:avLst>
              <a:gd name="adj" fmla="val 12500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1513080" cy="64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57120" y="358704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ME SAVE YOU! 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0560" y="188640"/>
            <a:ext cx="457344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beloved, hear My voice, and don’t harden your heart; because I am your Creator, the only one who can save you, and besides I want to save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Hebrews 3:7,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572080" y="-79200"/>
            <a:ext cx="3429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t is certain that you are separated from Me, because you have sin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(Romans 3:23)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Nevertheless, I love you more than anybody else, and even if you are insignificant to others, you are for Me the most precious work of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920" y="305280"/>
            <a:ext cx="900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created you in My own image by love, and with great love for you I left the halls of heaven. I saw you lost, and I came to earth to seek you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Luke 19:10; Ezekiel 34:11,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429080" y="30960"/>
            <a:ext cx="45720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became a man like you, nevertheless without s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Hebrews 4:15; 1 Peter 2:22).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The greatest voluntary mission of love for you was to give My life for you to save you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John 3: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95280" y="2133000"/>
            <a:ext cx="8501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precious blood that I shed on the cross for you was the just price for your s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When I died for you I paid all your debt; My sacrifice was complete and suffici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(1 Peter 1:18,19; Hebrews 10: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143160" y="173880"/>
            <a:ext cx="585792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T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hey buried Me, and   I was resurrected on the third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 prese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Myself some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to My disci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1 Corinthians 15:5,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showed them the signs of the nails on My hands and of the spear on My side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jornadasmardelplata.obispado.net/images/buen_pastor_sos_precios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2 Rectángulo"/>
          <p:cNvSpPr/>
          <p:nvPr/>
        </p:nvSpPr>
        <p:spPr>
          <a:xfrm>
            <a:off x="4857840" y="142920"/>
            <a:ext cx="428616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do mío, oye mi voz y no endurezcas tu corazón; porque yo soy tu Creador, el único que te puede salvar, y además, quiero salvart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Hebreos 3: 7, 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714680" y="-110520"/>
            <a:ext cx="72864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saw 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spoke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te with Me,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belie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Luke 24:36–43).</a:t>
            </a:r>
            <a:r>
              <a:rPr b="0" lang="en-US" sz="44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ing Me 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without seeing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justifies you, an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makes you happy for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John 20:27–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71720" y="243720"/>
            <a:ext cx="7858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  <a:ea typeface="SimSu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fter forty       days passe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efore the   presenc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My discipl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I went up to heav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Luke 24:50,51; Acts 1:2,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428760" y="500040"/>
            <a:ext cx="40719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9933ff"/>
                </a:solidFill>
                <a:latin typeface="Comic Sans MS"/>
              </a:rPr>
              <a:t>H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I am occupying M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thro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f glory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29080" y="7372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illuminating the royal pala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universe  </a:t>
            </a:r>
            <a:r>
              <a:rPr b="0" lang="en-US" sz="2400" spc="-1" strike="noStrike">
                <a:solidFill>
                  <a:srgbClr val="9933ff"/>
                </a:solidFill>
                <a:latin typeface="Comic Sans MS"/>
                <a:ea typeface="SimSun"/>
              </a:rPr>
              <a:t>(Revelation 21: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825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 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the King of king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and the Lord of lords, the First and the Last, He who lives, and was dead, and I am alive forevermore. Amen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SimSun"/>
              </a:rPr>
              <a:t>(Revelation 1:18; 2:8; 19: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457920"/>
            <a:ext cx="84297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Comic Sans MS"/>
                <a:ea typeface="SimSu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ll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has been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o Me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in earth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Matthew 28:18)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lso I act as an advo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before the 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for those that bel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hat I am who I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they receiv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s their 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Saviour and Lord          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1 John 2: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Rectángulo"/>
          <p:cNvSpPr/>
          <p:nvPr/>
        </p:nvSpPr>
        <p:spPr>
          <a:xfrm>
            <a:off x="357120" y="142920"/>
            <a:ext cx="58579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n 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sec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coming I will resurrect 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ose that d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believing in 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and I will g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em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f glory as M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62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e in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are a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shall receive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of glory als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they shall ri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o receive Me in the air, and they shall be with Me alway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1Thessalonians 4: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Rectángulo"/>
          <p:cNvSpPr/>
          <p:nvPr/>
        </p:nvSpPr>
        <p:spPr>
          <a:xfrm>
            <a:off x="3571920" y="500040"/>
            <a:ext cx="55720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on’t lose the eternal glory for which I formed you lovely with My hands and I gave you My life with so much lov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56000" y="173520"/>
            <a:ext cx="6588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sk Me for pardon and salvation, because that’s all that I ask you to do to pardon you and save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here, right no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(Acts 2:2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32040"/>
            <a:ext cx="871524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elov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ray with 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Lord </a:t>
            </a:r>
            <a:r>
              <a:rPr b="1" lang="en-US" sz="4400" spc="-1" strike="noStrike">
                <a:solidFill>
                  <a:srgbClr val="00ff00"/>
                </a:solidFill>
                <a:latin typeface="Comic Sans MS"/>
                <a:ea typeface="SimSun"/>
              </a:rPr>
              <a:t>Jes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am a sinner and I repent. I have heard Your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and I have believed in Yo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lease, forgive me, and save me from the wrath to 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lake of f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John 3:3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6143760" y="-87480"/>
            <a:ext cx="300024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 cierto que tú estas separado de mí, porque  has pe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omanos 3: 2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in embargo, yo te amo más que nadie, y por más insignificante que seas para otros, para mí eres la obra más preciosa de mis ma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 rot="20846400">
            <a:off x="1057320" y="1136160"/>
            <a:ext cx="67118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44de"/>
                </a:solidFill>
                <a:latin typeface="Comic Sans MS"/>
                <a:ea typeface="SimSun"/>
              </a:rPr>
              <a:t>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rite my 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Book of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heaven, beca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yearn to 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with You forever.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4de"/>
                </a:solidFill>
                <a:latin typeface="Comic Sans MS"/>
                <a:ea typeface="SimSun"/>
              </a:rPr>
              <a:t>(Revelation 20:15)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921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F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rom this moment I take Your word, and I proclaim myself saved by fai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n Your precious Name, because You have said that this would be so. You are God, and You don’t lie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Numbers 23: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24372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41a97"/>
                </a:solidFill>
                <a:latin typeface="Comic Sans MS"/>
                <a:ea typeface="SimSun"/>
              </a:rPr>
              <a:t>M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y Lord, my Creator and my God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Jesus Christ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,</a:t>
            </a:r>
            <a:r>
              <a:rPr b="1" lang="en-US" sz="52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I thank You for You have forgiven me and saved me, just for believing in You and asking You for pardon and salvation by faith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14256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ease,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o everybod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n’t let this message st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n you; and believe 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because it’s the truth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and the truth shall 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you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(John 8: 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1071720" y="578628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GOD BLESS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Rectángulo"/>
          <p:cNvSpPr/>
          <p:nvPr/>
        </p:nvSpPr>
        <p:spPr>
          <a:xfrm>
            <a:off x="0" y="28584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r amor te creé a mi imagen y semejanza, con gran amor por ti dejé los salones del cielo; porque te vi perdido, y vine a la tierra a buscarte 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Lucas 19: 10;  Ezequiel 34: 11,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Rectángulo"/>
          <p:cNvSpPr/>
          <p:nvPr/>
        </p:nvSpPr>
        <p:spPr>
          <a:xfrm>
            <a:off x="5357880" y="214200"/>
            <a:ext cx="378612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e hice hombre como tú, pero sin pe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(Hebreos 4:15; 1 Pedro 2: 22). 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Dar mi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por ti para salvarte fue mi mayor misión voluntaria de amor 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 (Juan 3: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642960" y="1857240"/>
            <a:ext cx="8072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i preciosa sangre que derramé en la cruz es el precio justo que pagué por tus pecados. Al morir en tu lugar toda tu deuda fue saldada; mi sacrificio de amor por ti es completo y suficiente 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(1 Pedro 1: 18, 19; Hebreos 10: 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4357800" y="285840"/>
            <a:ext cx="478620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 sepultaron, y resucité al tercer día. Me presenté varias veces a mis discíp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1 Corintios 15: 5,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s mostré las señales de los clavos en mis manos y de la lanza en mi co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Rectángulo"/>
          <p:cNvSpPr/>
          <p:nvPr/>
        </p:nvSpPr>
        <p:spPr>
          <a:xfrm>
            <a:off x="4643280" y="189000"/>
            <a:ext cx="4500720" cy="75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los me vieron,  comieron conmigo, y crey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Lucas 24: 36 – 4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or creer en mi sin verme; ahora tu eres salv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Juan 20: 27 – 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00:09Z</dcterms:created>
  <dc:creator>Samira de Amalyiata</dc:creator>
  <dc:description/>
  <dc:language>en-US</dc:language>
  <cp:lastModifiedBy>JERUSALEN</cp:lastModifiedBy>
  <dcterms:modified xsi:type="dcterms:W3CDTF">2008-07-13T06:53:08Z</dcterms:modified>
  <cp:revision>283</cp:revision>
  <dc:subject/>
  <dc:title>Diapositiva 1</dc:title>
</cp:coreProperties>
</file>