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permiteme%20salvarte%20ok.wav" ContentType="audio/x-wav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5A1C-9E64-4D14-AF34-BDA1CCFF7A1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0F08-07E2-4DBE-9A1B-705BA808E2D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B798-56DC-4859-90C4-B58EED47C50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7BA1-DD16-4BC4-88E2-EB5DA7A7A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CB96-F037-4BD3-A351-EB671E83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EAE3-7FBB-48CD-BB9A-FA9567F7D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6412-61EA-47F9-8D91-421E33F9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07ED-E9A3-4772-A72F-A51F33A1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9072-4517-419D-9DBD-6AE3BABD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8625-FCFF-4F31-85AB-95E45526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311B-2916-46A0-AE75-1A863FE3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EEAF-9888-4AD5-9D4E-710CC270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3432-BCB4-4B65-94A7-987C450E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ACA0-B9F7-4736-AA97-B358EB36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4986-A3FE-47C5-B245-BC76DAC6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0FDF-F89F-4843-B362-63C6CBB79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image" Target="../media/image2.png"/><Relationship Id="rId4" Type="http://schemas.openxmlformats.org/officeDocument/2006/relationships/slide" Target="slide23.xm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audio" Target="../media/permiteme%20salvarte%20ok.wav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23.xml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2 Bisel"/>
          <p:cNvGrpSpPr/>
          <p:nvPr/>
        </p:nvGrpSpPr>
        <p:grpSpPr>
          <a:xfrm>
            <a:off x="5732640" y="5373720"/>
            <a:ext cx="2828880" cy="1401840"/>
            <a:chOff x="5732640" y="5373720"/>
            <a:chExt cx="2828880" cy="1401840"/>
          </a:xfrm>
        </p:grpSpPr>
        <p:pic>
          <p:nvPicPr>
            <p:cNvPr id="49" name="2 Bisel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732640" y="5373720"/>
              <a:ext cx="282888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6002280" y="5645160"/>
              <a:ext cx="22860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4 Rectángulo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715000" y="5599080"/>
            <a:ext cx="2840040" cy="944640"/>
          </a:xfrm>
          <a:prstGeom prst="rect">
            <a:avLst/>
          </a:prstGeom>
          <a:ln w="0">
            <a:noFill/>
          </a:ln>
        </p:spPr>
      </p:pic>
      <p:pic>
        <p:nvPicPr>
          <p:cNvPr id="52" name="6 Rectángulo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3892680" y="5587920"/>
            <a:ext cx="1492200" cy="944640"/>
          </a:xfrm>
          <a:prstGeom prst="rect">
            <a:avLst/>
          </a:prstGeom>
          <a:ln w="0">
            <a:noFill/>
          </a:ln>
        </p:spPr>
      </p:pic>
      <p:grpSp>
        <p:nvGrpSpPr>
          <p:cNvPr id="53" name="7 Bisel"/>
          <p:cNvGrpSpPr/>
          <p:nvPr/>
        </p:nvGrpSpPr>
        <p:grpSpPr>
          <a:xfrm>
            <a:off x="563400" y="5373720"/>
            <a:ext cx="2822400" cy="1401840"/>
            <a:chOff x="563400" y="5373720"/>
            <a:chExt cx="2822400" cy="1401840"/>
          </a:xfrm>
        </p:grpSpPr>
        <p:pic>
          <p:nvPicPr>
            <p:cNvPr id="54" name="7 Bisel" descr="">
              <a:hlinkClick r:id="" action="ppaction://hlinkshowjump?jump=nextslide"/>
            </p:cNvPr>
            <p:cNvPicPr/>
            <p:nvPr/>
          </p:nvPicPr>
          <p:blipFill>
            <a:blip r:embed="rId7"/>
            <a:stretch/>
          </p:blipFill>
          <p:spPr>
            <a:xfrm>
              <a:off x="563400" y="5373720"/>
              <a:ext cx="28224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31600" y="5645160"/>
              <a:ext cx="22860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8 Rectángulo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01480" y="5526000"/>
            <a:ext cx="2975040" cy="9446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9" name="permiteme%20salvarte%20o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2 Rectángulo"/>
          <p:cNvSpPr/>
          <p:nvPr/>
        </p:nvSpPr>
        <p:spPr>
          <a:xfrm>
            <a:off x="2571840" y="285840"/>
            <a:ext cx="628632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uarent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días después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ubí al ciel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en  presenci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de mis discípul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(Lucas 24: 50, 51; Hechos 1: 2, 3).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pull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3 Rectángulo"/>
          <p:cNvSpPr/>
          <p:nvPr/>
        </p:nvSpPr>
        <p:spPr>
          <a:xfrm>
            <a:off x="214200" y="785880"/>
            <a:ext cx="3571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cc"/>
                </a:solidFill>
                <a:latin typeface="Comic Sans MS"/>
              </a:rPr>
              <a:t>0</a:t>
            </a: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cup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mi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tron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e gloria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5 Rectángulo"/>
          <p:cNvSpPr/>
          <p:nvPr/>
        </p:nvSpPr>
        <p:spPr>
          <a:xfrm>
            <a:off x="5357880" y="1071720"/>
            <a:ext cx="3786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en el palacio real del univers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(Apocalipsis 21: 2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pull dir="l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4 Rectángulo"/>
          <p:cNvSpPr/>
          <p:nvPr/>
        </p:nvSpPr>
        <p:spPr>
          <a:xfrm>
            <a:off x="214200" y="282600"/>
            <a:ext cx="864396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00"/>
                </a:solidFill>
                <a:latin typeface="Comic Sans MS"/>
              </a:rPr>
              <a:t>S</a:t>
            </a: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oy Rey de rey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y Señor de señores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el primero y el último, el que estuvo muerto y vivió, y vivo por los siglos. Amén.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 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(Apocalipsis 1:18; 2:8; 19:1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pull dir="lu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4 Rectángulo"/>
          <p:cNvSpPr/>
          <p:nvPr/>
        </p:nvSpPr>
        <p:spPr>
          <a:xfrm>
            <a:off x="214200" y="285840"/>
            <a:ext cx="54295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3399ff"/>
                </a:solidFill>
                <a:latin typeface="Comic Sans MS"/>
              </a:rPr>
              <a:t>M</a:t>
            </a:r>
            <a:r>
              <a:rPr b="0" lang="es-ES" sz="3600" spc="-1" strike="noStrike">
                <a:solidFill>
                  <a:srgbClr val="ffffff"/>
                </a:solidFill>
                <a:latin typeface="Comic Sans MS"/>
              </a:rPr>
              <a:t>e ha sido dada toda autoridad en el cielo y en la tierra </a:t>
            </a:r>
            <a:r>
              <a:rPr b="0" lang="es-ES" sz="2200" spc="-1" strike="noStrike">
                <a:solidFill>
                  <a:srgbClr val="3399ff"/>
                </a:solidFill>
                <a:latin typeface="Comic Sans MS"/>
              </a:rPr>
              <a:t>(Mateo 28:18). </a:t>
            </a:r>
            <a:r>
              <a:rPr b="0" lang="es-ES" sz="3600" spc="-1" strike="noStrike">
                <a:solidFill>
                  <a:srgbClr val="ffffff"/>
                </a:solidFill>
                <a:latin typeface="Comic Sans MS"/>
              </a:rPr>
              <a:t>También ejerzo de abogado defensor ante el Padre, para los que han creído que yo soy quien digo, y me han  recibido por Salvador personal y Señ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5 CuadroTexto"/>
          <p:cNvSpPr/>
          <p:nvPr/>
        </p:nvSpPr>
        <p:spPr>
          <a:xfrm>
            <a:off x="6429240" y="6286680"/>
            <a:ext cx="25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(1 Juan 2: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pull dir="r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4 Rectángulo"/>
          <p:cNvSpPr/>
          <p:nvPr/>
        </p:nvSpPr>
        <p:spPr>
          <a:xfrm>
            <a:off x="0" y="214200"/>
            <a:ext cx="464328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esucitaré en mi segunda venida a los que hayan muerto creyendo en mí, y les daré un cuerpo de gloria como el mío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pull dir="r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4 Rectángulo"/>
          <p:cNvSpPr/>
          <p:nvPr/>
        </p:nvSpPr>
        <p:spPr>
          <a:xfrm>
            <a:off x="0" y="285840"/>
            <a:ext cx="500076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ffff"/>
                </a:solidFill>
                <a:latin typeface="Comic Sans MS"/>
              </a:rPr>
              <a:t>L</a:t>
            </a:r>
            <a:r>
              <a:rPr b="0" lang="es-ES" sz="4400" spc="-1" strike="noStrike">
                <a:solidFill>
                  <a:srgbClr val="ffff00"/>
                </a:solidFill>
                <a:latin typeface="Comic Sans MS"/>
              </a:rPr>
              <a:t>os que crean en mí y estén vivos también recibirán un cuerpo de gloria, subirán a recibirme en el aire para estar  siempre conmigo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(1Tesalonicenses 4: 16,1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ush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4 Rectángulo"/>
          <p:cNvSpPr/>
          <p:nvPr/>
        </p:nvSpPr>
        <p:spPr>
          <a:xfrm>
            <a:off x="4071960" y="428760"/>
            <a:ext cx="507204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4800" spc="-1" strike="noStrike">
                <a:solidFill>
                  <a:srgbClr val="c00000"/>
                </a:solidFill>
                <a:latin typeface="Comic Sans MS"/>
              </a:rPr>
              <a:t>o te pierdas la gloria eterna para la cual      te formé amorosamente con mis manos, y te di mi vida con tanto amor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push dir="l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4 Rectángulo"/>
          <p:cNvSpPr/>
          <p:nvPr/>
        </p:nvSpPr>
        <p:spPr>
          <a:xfrm>
            <a:off x="1357200" y="428760"/>
            <a:ext cx="778680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f0"/>
                </a:solidFill>
                <a:latin typeface="Comic Sans MS"/>
              </a:rPr>
              <a:t>P</a:t>
            </a:r>
            <a:r>
              <a:rPr b="0" lang="en-US" sz="6000" spc="-1" strike="noStrike">
                <a:solidFill>
                  <a:srgbClr val="f2f2f2"/>
                </a:solidFill>
                <a:latin typeface="Comic Sans MS"/>
              </a:rPr>
              <a:t>ídeme perdón y salvación, porque solo esto debes hacer para que yo te perdone y te salve ahora mism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Comic Sans MS"/>
              </a:rPr>
              <a:t>(Hechos 2: 21)</a:t>
            </a:r>
            <a:r>
              <a:rPr b="0" lang="en-US" sz="3200" spc="-1" strike="noStrike">
                <a:solidFill>
                  <a:srgbClr val="00ffff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push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5 Rectángulo"/>
          <p:cNvSpPr/>
          <p:nvPr/>
        </p:nvSpPr>
        <p:spPr>
          <a:xfrm>
            <a:off x="0" y="0"/>
            <a:ext cx="9144000" cy="67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mado, ora con fe: 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Señor </a:t>
            </a:r>
            <a:r>
              <a:rPr b="1" lang="en-US" sz="5400" spc="-1" strike="noStrike">
                <a:solidFill>
                  <a:srgbClr val="00ff00"/>
                </a:solidFill>
                <a:latin typeface="Comic Sans MS"/>
              </a:rPr>
              <a:t>Jesús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, soy pecador y me arrepiento. He oído tu voz y te he creído; por favor, perdóname, y sálvame de la ira venidera en el lago de fueg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omic Sans MS"/>
              </a:rPr>
              <a:t>(Juan 3: 36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push dir="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2 Rectángulo"/>
          <p:cNvSpPr/>
          <p:nvPr/>
        </p:nvSpPr>
        <p:spPr>
          <a:xfrm rot="20677200">
            <a:off x="1145160" y="1064880"/>
            <a:ext cx="653436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scribe mi nombre en el libro de la vida en el cielo, porque yo anhelo vivir eternamente contigo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Apocalipsis 20:1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over dir="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4 Rectángulo"/>
          <p:cNvSpPr/>
          <p:nvPr/>
        </p:nvSpPr>
        <p:spPr>
          <a:xfrm>
            <a:off x="71280" y="3714840"/>
            <a:ext cx="89298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0000"/>
                </a:solidFill>
                <a:latin typeface="Comic Sans MS"/>
              </a:rPr>
              <a:t>¡ PERMITEM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10000" spc="-1" strike="noStrike">
                <a:solidFill>
                  <a:srgbClr val="ff0000"/>
                </a:solidFill>
                <a:latin typeface="Comic Sans MS"/>
              </a:rPr>
              <a:t>SALVARTE !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5 Rectángulo"/>
          <p:cNvSpPr/>
          <p:nvPr/>
        </p:nvSpPr>
        <p:spPr>
          <a:xfrm>
            <a:off x="500040" y="214200"/>
            <a:ext cx="842976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ff"/>
                </a:solidFill>
                <a:latin typeface="Comic Sans MS"/>
              </a:rPr>
              <a:t>D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esde este momento te tomo la palabra, y me proclamo salvado por la fe en tu precioso Nombre, porque tú has dicho que así lo sería. Eres Dios y no mientes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Comic Sans MS"/>
              </a:rPr>
              <a:t>(Números 23: 19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cover dir="l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5 Rectángulo"/>
          <p:cNvSpPr/>
          <p:nvPr/>
        </p:nvSpPr>
        <p:spPr>
          <a:xfrm>
            <a:off x="0" y="214200"/>
            <a:ext cx="9144000" cy="64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10f8e"/>
                </a:solidFill>
                <a:latin typeface="Comic Sans MS"/>
              </a:rPr>
              <a:t>S</a:t>
            </a:r>
            <a:r>
              <a:rPr b="1" lang="en-US" sz="5600" spc="-1" strike="noStrike">
                <a:solidFill>
                  <a:srgbClr val="ffffcc"/>
                </a:solidFill>
                <a:latin typeface="Comic Sans MS"/>
              </a:rPr>
              <a:t>eñor mío, Creador mío y Dios mío </a:t>
            </a:r>
            <a:r>
              <a:rPr b="1" lang="en-US" sz="5600" spc="-1" strike="noStrike">
                <a:solidFill>
                  <a:srgbClr val="ff0000"/>
                </a:solidFill>
                <a:latin typeface="Comic Sans MS"/>
              </a:rPr>
              <a:t>Jesucristo</a:t>
            </a:r>
            <a:r>
              <a:rPr b="1" lang="en-US" sz="5600" spc="-1" strike="noStrike">
                <a:solidFill>
                  <a:srgbClr val="ffffcc"/>
                </a:solidFill>
                <a:latin typeface="Comic Sans MS"/>
              </a:rPr>
              <a:t>, te doy las gracias por haberme perdonado, y salvado solamente por creerte, y pedirte perdón y salvación por fe.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cover dir="r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2 Rectángulo"/>
          <p:cNvSpPr/>
          <p:nvPr/>
        </p:nvSpPr>
        <p:spPr>
          <a:xfrm>
            <a:off x="0" y="26028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ookman Old Style"/>
              </a:rPr>
              <a:t>¡</a:t>
            </a:r>
            <a:r>
              <a:rPr b="1" lang="es-ES" sz="5400" spc="-1" strike="noStrike">
                <a:solidFill>
                  <a:srgbClr val="ff0000"/>
                </a:solidFill>
                <a:latin typeface="Bookman Old Style"/>
              </a:rPr>
              <a:t>P</a:t>
            </a:r>
            <a:r>
              <a:rPr b="1" lang="es-ES" sz="3600" spc="-1" strike="noStrike">
                <a:solidFill>
                  <a:srgbClr val="ff0000"/>
                </a:solidFill>
                <a:latin typeface="Bookman Old Style"/>
              </a:rPr>
              <a:t>or favor, mándal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Bookman Old Style"/>
              </a:rPr>
              <a:t>a todo el mund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Bookman Old Style"/>
              </a:rPr>
              <a:t>Que no se pare en ti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Bookman Old Style"/>
              </a:rPr>
              <a:t>y créel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Bookman Old Style"/>
              </a:rPr>
              <a:t>porque es la verd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Bookman Old Style"/>
              </a:rPr>
              <a:t>que te hará lib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ff00"/>
                </a:solidFill>
                <a:latin typeface="Bookman Old Style"/>
              </a:rPr>
              <a:t> </a:t>
            </a:r>
            <a:r>
              <a:rPr b="1" lang="es-ES" sz="2400" spc="-1" strike="noStrike">
                <a:solidFill>
                  <a:srgbClr val="3333ff"/>
                </a:solidFill>
                <a:latin typeface="Bookman Old Style"/>
              </a:rPr>
              <a:t>(Juan 8: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Bookman Old Style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6 CuadroTexto"/>
          <p:cNvSpPr/>
          <p:nvPr/>
        </p:nvSpPr>
        <p:spPr>
          <a:xfrm>
            <a:off x="324000" y="4581360"/>
            <a:ext cx="84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ookman Old Style"/>
              </a:rPr>
              <a:t>¡DIOS TE BENDIGA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3 Bisel">
            <a:hlinkClick r:id="rId2" action="ppaction://hlinksldjump"/>
          </p:cNvPr>
          <p:cNvSpPr/>
          <p:nvPr/>
        </p:nvSpPr>
        <p:spPr>
          <a:xfrm>
            <a:off x="7451640" y="6021360"/>
            <a:ext cx="1549440" cy="660600"/>
          </a:xfrm>
          <a:prstGeom prst="bevel">
            <a:avLst>
              <a:gd name="adj" fmla="val 12500"/>
            </a:avLst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7 Rectángulo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7451640" y="6021360"/>
            <a:ext cx="1513080" cy="647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357120" y="3587040"/>
            <a:ext cx="828684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5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LET ME SAVE YOU!  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dissolv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385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385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5" dur="38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7" dur="38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4570560" y="188640"/>
            <a:ext cx="4573440" cy="63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omic Sans MS"/>
                <a:ea typeface="SimSun"/>
              </a:rPr>
              <a:t>M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SimSun"/>
              </a:rPr>
              <a:t>y beloved, hear My voice, and don’t harden your heart; because I am your Creator, the only one who can save you, and besides I want to save yo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(Hebrews 3:7,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ipe dir="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5572080" y="-79200"/>
            <a:ext cx="3429000" cy="68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00"/>
                </a:solidFill>
                <a:latin typeface="Comic Sans MS"/>
                <a:ea typeface="SimSun"/>
              </a:rPr>
              <a:t>I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  <a:ea typeface="SimSun"/>
              </a:rPr>
              <a:t>t is certain that you are separated from Me, because you have sin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SimSun"/>
              </a:rPr>
              <a:t>(Romans 3:23).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  <a:ea typeface="SimSun"/>
              </a:rPr>
              <a:t>Nevertheless, I love you more than anybody else, and even if you are insignificant to others, you are for Me the most precious work of My h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ipe dir="l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142920" y="305280"/>
            <a:ext cx="9001080" cy="62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omic Sans MS"/>
                <a:ea typeface="SimSun"/>
              </a:rPr>
              <a:t>I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  <a:ea typeface="SimSun"/>
              </a:rPr>
              <a:t>created you in My own image by love, and with great love for you I left the halls of heaven. I saw you lost, and I came to earth to seek you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(Luke 19:10; Ezekiel 34:11,1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ipe dir="r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4429080" y="30960"/>
            <a:ext cx="4572000" cy="67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  <a:ea typeface="SimSun"/>
              </a:rPr>
              <a:t>I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SimSun"/>
              </a:rPr>
              <a:t>became a man like you, nevertheless without s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SimSun"/>
              </a:rPr>
              <a:t>(Hebrews 4:15; 1 Peter 2:22).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SimSun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SimSun"/>
              </a:rPr>
              <a:t>The greatest voluntary mission of love for you was to give My life for you to save you 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  <a:ea typeface="SimSun"/>
              </a:rPr>
              <a:t>(John 3:1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ipe dir="u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395280" y="2133000"/>
            <a:ext cx="85010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  <a:ea typeface="SimSun"/>
              </a:rPr>
              <a:t>M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SimSun"/>
              </a:rPr>
              <a:t>y precious blood that I shed on the cross for you was the just price for your si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SimSun"/>
              </a:rPr>
              <a:t>When I died for you I paid all your debt; My sacrifice was complete and suffici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SimSun"/>
              </a:rPr>
              <a:t>(1 Peter 1:18,19; Hebrews 10:1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pull dir="d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"/>
          <p:cNvSpPr/>
          <p:nvPr/>
        </p:nvSpPr>
        <p:spPr>
          <a:xfrm>
            <a:off x="3143160" y="173880"/>
            <a:ext cx="5857920" cy="65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T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  <a:ea typeface="SimSun"/>
              </a:rPr>
              <a:t>hey buried Me, and   I was resurrected on the third da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  <a:ea typeface="SimSun"/>
              </a:rPr>
              <a:t>I present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  <a:ea typeface="SimSun"/>
              </a:rPr>
              <a:t>Myself some tim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  <a:ea typeface="SimSu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  <a:ea typeface="SimSun"/>
              </a:rPr>
              <a:t>to My discip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SimSun"/>
              </a:rPr>
              <a:t>(1 Corinthians 15:5,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SimSu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  <a:ea typeface="SimSun"/>
              </a:rPr>
              <a:t>I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  <a:ea typeface="SimSu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  <a:ea typeface="SimSun"/>
              </a:rPr>
              <a:t>showed them the signs of the nails on My hands and of the spear on My side</a:t>
            </a:r>
            <a:r>
              <a:rPr b="0" lang="en-US" sz="1400" spc="-1" strike="noStrike">
                <a:solidFill>
                  <a:srgbClr val="00ff00"/>
                </a:solidFill>
                <a:latin typeface="Comic Sans MS"/>
                <a:ea typeface="SimSu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pull dir="l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jornadasmardelplata.obispado.net/images/buen_pastor_sos_precios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2 Rectángulo"/>
          <p:cNvSpPr/>
          <p:nvPr/>
        </p:nvSpPr>
        <p:spPr>
          <a:xfrm>
            <a:off x="4857840" y="142920"/>
            <a:ext cx="4286160" cy="69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mado mío, oye mi voz y no endurezcas tu corazón; porque yo soy tu Creador, el único que te puede salvar, y además, quiero salvart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Hebreos 3: 7, 8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8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385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38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385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714680" y="-110520"/>
            <a:ext cx="7286400" cy="68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ff"/>
                </a:solidFill>
                <a:latin typeface="Comic Sans MS"/>
                <a:ea typeface="SimSun"/>
              </a:rPr>
              <a:t>T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hey saw M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they spoke 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ate with Me, 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they believ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  <a:ea typeface="SimSun"/>
              </a:rPr>
              <a:t>(Luke 24:36–43).</a:t>
            </a:r>
            <a:r>
              <a:rPr b="0" lang="en-US" sz="4400" spc="-1" strike="noStrike">
                <a:solidFill>
                  <a:srgbClr val="00ffff"/>
                </a:solidFill>
                <a:latin typeface="Comic Sans MS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Believing Me no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without seeing 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justifies you, and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makes you happy fore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  <a:ea typeface="SimSun"/>
              </a:rPr>
              <a:t>(John 20:27–2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pull dir="r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1071720" y="243720"/>
            <a:ext cx="785808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  <a:ea typeface="SimSun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SimSun"/>
              </a:rPr>
              <a:t>fter forty       days passed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SimSun"/>
              </a:rPr>
              <a:t>before the   presence of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SimSun"/>
              </a:rPr>
              <a:t>My disciples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SimSun"/>
              </a:rPr>
              <a:t>I went up to heave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SimSun"/>
              </a:rPr>
              <a:t>(Luke 24:50,51; Acts 1:2,3).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pull dir="ld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1 Rectángulo"/>
          <p:cNvSpPr/>
          <p:nvPr/>
        </p:nvSpPr>
        <p:spPr>
          <a:xfrm>
            <a:off x="428760" y="500040"/>
            <a:ext cx="407196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9933ff"/>
                </a:solidFill>
                <a:latin typeface="Comic Sans MS"/>
              </a:rPr>
              <a:t>H</a:t>
            </a:r>
            <a:r>
              <a:rPr b="0" lang="es-ES" sz="6000" spc="-1" strike="noStrike">
                <a:solidFill>
                  <a:srgbClr val="ffffff"/>
                </a:solidFill>
                <a:latin typeface="Comic Sans MS"/>
              </a:rPr>
              <a:t>er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Comic Sans MS"/>
              </a:rPr>
              <a:t>I am occupying M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Comic Sans MS"/>
              </a:rPr>
              <a:t>thron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Comic Sans MS"/>
              </a:rPr>
              <a:t>of glory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4429080" y="737280"/>
            <a:ext cx="450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  <a:ea typeface="SimSun"/>
              </a:rPr>
              <a:t>illuminating the royal palac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  <a:ea typeface="SimSun"/>
              </a:rPr>
              <a:t>of the universe  </a:t>
            </a:r>
            <a:r>
              <a:rPr b="0" lang="en-US" sz="2400" spc="-1" strike="noStrike">
                <a:solidFill>
                  <a:srgbClr val="9933ff"/>
                </a:solidFill>
                <a:latin typeface="Comic Sans MS"/>
                <a:ea typeface="SimSun"/>
              </a:rPr>
              <a:t>(Revelation 21:2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pull dir="u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0" y="-18252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Comic Sans MS"/>
                <a:ea typeface="SimSun"/>
              </a:rPr>
              <a:t>I</a:t>
            </a:r>
            <a:r>
              <a:rPr b="0" lang="en-US" sz="6000" spc="-1" strike="noStrike">
                <a:solidFill>
                  <a:srgbClr val="ff0000"/>
                </a:solidFill>
                <a:latin typeface="Comic Sans MS"/>
                <a:ea typeface="SimSun"/>
              </a:rPr>
              <a:t> am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  <a:ea typeface="SimSun"/>
              </a:rPr>
              <a:t>the King of king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  <a:ea typeface="SimSun"/>
              </a:rPr>
              <a:t>and the Lord of lords, the First and the Last, He who lives, and was dead, and I am alive forevermore. Amen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  <a:ea typeface="SimSun"/>
              </a:rPr>
              <a:t>(Revelation 1:18; 2:8; 19:1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pull dir="lu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357120" y="457920"/>
            <a:ext cx="842976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0f0"/>
                </a:solidFill>
                <a:latin typeface="Comic Sans MS"/>
                <a:ea typeface="SimSun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ll pow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has been giv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to Me in he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and in earth </a:t>
            </a:r>
            <a:r>
              <a:rPr b="0" lang="en-US" sz="2200" spc="-1" strike="noStrike">
                <a:solidFill>
                  <a:srgbClr val="00b0f0"/>
                </a:solidFill>
                <a:latin typeface="Comic Sans MS"/>
                <a:ea typeface="SimSun"/>
              </a:rPr>
              <a:t>(Matthew 28:18).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SimSu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Also I act as an advoc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before the Fa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for those that believ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that I am who I sa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and they received 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as their perso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SimSun"/>
              </a:rPr>
              <a:t>Saviour and Lord           </a:t>
            </a:r>
            <a:r>
              <a:rPr b="0" lang="en-US" sz="2200" spc="-1" strike="noStrike">
                <a:solidFill>
                  <a:srgbClr val="00b0f0"/>
                </a:solidFill>
                <a:latin typeface="Comic Sans MS"/>
                <a:ea typeface="SimSun"/>
              </a:rPr>
              <a:t>(1 John 2: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pull dir="rd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1 Rectángulo"/>
          <p:cNvSpPr/>
          <p:nvPr/>
        </p:nvSpPr>
        <p:spPr>
          <a:xfrm>
            <a:off x="357120" y="142920"/>
            <a:ext cx="585792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s-ES" sz="4400" spc="-1" strike="noStrike">
                <a:solidFill>
                  <a:srgbClr val="ffff00"/>
                </a:solidFill>
                <a:latin typeface="Comic Sans MS"/>
              </a:rPr>
              <a:t>n m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Comic Sans MS"/>
              </a:rPr>
              <a:t>seco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Comic Sans MS"/>
              </a:rPr>
              <a:t>coming I will resurrect a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Comic Sans MS"/>
              </a:rPr>
              <a:t>those that di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Comic Sans MS"/>
              </a:rPr>
              <a:t>believing in M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Comic Sans MS"/>
              </a:rPr>
              <a:t>and I will gi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Comic Sans MS"/>
              </a:rPr>
              <a:t>them a bod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Comic Sans MS"/>
              </a:rPr>
              <a:t>of glory as M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pull dir="ru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385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385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5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7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0" y="386280"/>
            <a:ext cx="914400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ff"/>
                </a:solidFill>
                <a:latin typeface="Comic Sans MS"/>
                <a:ea typeface="SimSun"/>
              </a:rPr>
              <a:t>T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hey tha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believe in 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and are ali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shall receive a bod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of glory also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and they shall ri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  <a:ea typeface="SimSun"/>
              </a:rPr>
              <a:t>to receive Me in the air, and they shall be with Me always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SimSu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  <a:ea typeface="SimSun"/>
              </a:rPr>
              <a:t>(1Thessalonians 4:16,1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push dir="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2 Rectángulo"/>
          <p:cNvSpPr/>
          <p:nvPr/>
        </p:nvSpPr>
        <p:spPr>
          <a:xfrm>
            <a:off x="3571920" y="500040"/>
            <a:ext cx="557208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es-ES" sz="4800" spc="-1" strike="noStrike">
                <a:solidFill>
                  <a:srgbClr val="ff0000"/>
                </a:solidFill>
                <a:latin typeface="Comic Sans MS"/>
              </a:rPr>
              <a:t>on’t lose the eternal glory for which I formed you lovely with My hands and I gave you My life with so much love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push dir="l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2556000" y="173520"/>
            <a:ext cx="6588000" cy="65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ff"/>
                </a:solidFill>
                <a:latin typeface="Comic Sans MS"/>
                <a:ea typeface="SimSun"/>
              </a:rPr>
              <a:t>A</a:t>
            </a:r>
            <a:r>
              <a:rPr b="0" lang="en-US" sz="5400" spc="-1" strike="noStrike">
                <a:solidFill>
                  <a:srgbClr val="ffffff"/>
                </a:solidFill>
                <a:latin typeface="Comic Sans MS"/>
                <a:ea typeface="SimSun"/>
              </a:rPr>
              <a:t>sk Me for pardon and salvation, because that’s all that I ask you to do to pardon you and save you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  <a:ea typeface="SimSun"/>
              </a:rPr>
              <a:t>here, right now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  <a:ea typeface="SimSun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Comic Sans MS"/>
                <a:ea typeface="SimSun"/>
              </a:rPr>
              <a:t>(Acts 2:2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push dir="r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385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385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38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38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0" y="32040"/>
            <a:ext cx="8715240" cy="67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  <a:ea typeface="SimSun"/>
              </a:rPr>
              <a:t>B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eloved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pray with faith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Lord </a:t>
            </a:r>
            <a:r>
              <a:rPr b="1" lang="en-US" sz="4400" spc="-1" strike="noStrike">
                <a:solidFill>
                  <a:srgbClr val="00ff00"/>
                </a:solidFill>
                <a:latin typeface="Comic Sans MS"/>
                <a:ea typeface="SimSun"/>
              </a:rPr>
              <a:t>Jesus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I am a sinner and I repent. I have heard Your voi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and I have believed in You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Please, forgive me, and save me from the wrath to co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in the lake of fir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(John 3:3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push dir="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2 Rectángulo"/>
          <p:cNvSpPr/>
          <p:nvPr/>
        </p:nvSpPr>
        <p:spPr>
          <a:xfrm>
            <a:off x="6143760" y="-87480"/>
            <a:ext cx="3000240" cy="69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s cierto que tú estas separado de mí, porque  has peca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Romanos 3: 23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Sin embargo, yo te amo más que nadie, y por más insignificante que seas para otros, para mí eres la obra más preciosa de mis man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ipe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 rot="20846400">
            <a:off x="1057320" y="1136160"/>
            <a:ext cx="671184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044de"/>
                </a:solidFill>
                <a:latin typeface="Comic Sans MS"/>
                <a:ea typeface="SimSun"/>
              </a:rPr>
              <a:t>W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rite my na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in the Book of Lif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in heaven, becau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I yearn to li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  <a:ea typeface="SimSun"/>
              </a:rPr>
              <a:t>with You forever.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44de"/>
                </a:solidFill>
                <a:latin typeface="Comic Sans MS"/>
                <a:ea typeface="SimSun"/>
              </a:rPr>
              <a:t>(Revelation 20:15)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over dir="d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0" y="92160"/>
            <a:ext cx="9144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ff"/>
                </a:solidFill>
                <a:latin typeface="Comic Sans MS"/>
                <a:ea typeface="SimSun"/>
              </a:rPr>
              <a:t>F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  <a:ea typeface="SimSun"/>
              </a:rPr>
              <a:t>rom this moment I take Your word, and I proclaim myself saved by faith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omic Sans MS"/>
                <a:ea typeface="SimSun"/>
              </a:rPr>
              <a:t>in Your precious Name, because You have said that this would be so. You are God, and You don’t lie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SimSun"/>
              </a:rPr>
              <a:t>(Numbers 23:19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cover dir="r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0" y="243720"/>
            <a:ext cx="914400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41a97"/>
                </a:solidFill>
                <a:latin typeface="Comic Sans MS"/>
                <a:ea typeface="SimSun"/>
              </a:rPr>
              <a:t>M</a:t>
            </a:r>
            <a:r>
              <a:rPr b="1" lang="en-US" sz="5200" spc="-1" strike="noStrike">
                <a:solidFill>
                  <a:srgbClr val="ffffff"/>
                </a:solidFill>
                <a:latin typeface="Comic Sans MS"/>
                <a:ea typeface="SimSun"/>
              </a:rPr>
              <a:t>y Lord, my Creator and my God </a:t>
            </a:r>
            <a:r>
              <a:rPr b="1" lang="en-US" sz="6000" spc="-1" strike="noStrike">
                <a:solidFill>
                  <a:srgbClr val="ff0000"/>
                </a:solidFill>
                <a:latin typeface="Comic Sans MS"/>
                <a:ea typeface="SimSun"/>
              </a:rPr>
              <a:t>Jesus Christ</a:t>
            </a:r>
            <a:r>
              <a:rPr b="1" lang="en-US" sz="5200" spc="-1" strike="noStrike">
                <a:solidFill>
                  <a:srgbClr val="ffffff"/>
                </a:solidFill>
                <a:latin typeface="Comic Sans MS"/>
                <a:ea typeface="SimSun"/>
              </a:rPr>
              <a:t>,</a:t>
            </a:r>
            <a:r>
              <a:rPr b="1" lang="en-US" sz="5200" spc="-1" strike="noStrike">
                <a:solidFill>
                  <a:srgbClr val="ff0000"/>
                </a:solidFill>
                <a:latin typeface="Comic Sans MS"/>
                <a:ea typeface="SimSun"/>
              </a:rPr>
              <a:t> </a:t>
            </a:r>
            <a:r>
              <a:rPr b="1" lang="en-US" sz="5200" spc="-1" strike="noStrike">
                <a:solidFill>
                  <a:srgbClr val="ffffff"/>
                </a:solidFill>
                <a:latin typeface="Comic Sans MS"/>
                <a:ea typeface="SimSun"/>
              </a:rPr>
              <a:t>I thank You for You have forgiven me and saved me, just for believing in You and asking You for pardon and salvation by faith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cover dir="l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0" y="142560"/>
            <a:ext cx="9144000" cy="56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P</a:t>
            </a:r>
            <a:r>
              <a:rPr b="1" lang="en-US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lease, send 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to everybod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Don’t let this message sto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in you; and believe it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because it’s the truth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and the truth shall mak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okman Old Style"/>
                <a:ea typeface="Times New Roman"/>
              </a:rPr>
              <a:t>you f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Bookman Old Style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Bookman Old Style"/>
                <a:ea typeface="Times New Roman"/>
              </a:rPr>
              <a:t>(John 8: 3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2 CuadroTexto"/>
          <p:cNvSpPr/>
          <p:nvPr/>
        </p:nvSpPr>
        <p:spPr>
          <a:xfrm>
            <a:off x="1071720" y="5786280"/>
            <a:ext cx="807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Bookman Old Style"/>
              </a:rPr>
              <a:t>GOD BLESS YOU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newsflash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2 Rectángulo"/>
          <p:cNvSpPr/>
          <p:nvPr/>
        </p:nvSpPr>
        <p:spPr>
          <a:xfrm>
            <a:off x="0" y="285840"/>
            <a:ext cx="914400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es-ES" sz="6000" spc="-1" strike="noStrike">
                <a:solidFill>
                  <a:srgbClr val="ffffff"/>
                </a:solidFill>
                <a:latin typeface="Comic Sans MS"/>
              </a:rPr>
              <a:t>or amor te creé a mi imagen y semejanza, con gran amor por ti dejé los salones del cielo; porque te vi perdido, y vine a la tierra a buscarte 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(Lucas 19: 10;  Ezequiel 34: 11, 1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4 Rectángulo"/>
          <p:cNvSpPr/>
          <p:nvPr/>
        </p:nvSpPr>
        <p:spPr>
          <a:xfrm>
            <a:off x="5357880" y="214200"/>
            <a:ext cx="3786120" cy="67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s-ES" sz="4000" spc="-1" strike="noStrike">
                <a:solidFill>
                  <a:srgbClr val="ff0000"/>
                </a:solidFill>
                <a:latin typeface="Comic Sans MS"/>
              </a:rPr>
              <a:t>e hice hombre como tú, pero sin peca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(Hebreos 4:15; 1 Pedro 2: 22). </a:t>
            </a:r>
            <a:r>
              <a:rPr b="0" lang="es-ES" sz="4000" spc="-1" strike="noStrike">
                <a:solidFill>
                  <a:srgbClr val="ff0000"/>
                </a:solidFill>
                <a:latin typeface="Comic Sans MS"/>
              </a:rPr>
              <a:t>Dar mi vid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Comic Sans MS"/>
              </a:rPr>
              <a:t>por ti para salvarte fue mi mayor misión voluntaria de amor </a:t>
            </a: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 (Juan 3: 1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wipe dir="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4 Rectángulo"/>
          <p:cNvSpPr/>
          <p:nvPr/>
        </p:nvSpPr>
        <p:spPr>
          <a:xfrm>
            <a:off x="642960" y="1857240"/>
            <a:ext cx="807228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s-ES" sz="4000" spc="-1" strike="noStrike">
                <a:solidFill>
                  <a:srgbClr val="ff0000"/>
                </a:solidFill>
                <a:latin typeface="Comic Sans MS"/>
              </a:rPr>
              <a:t>i preciosa sangre que derramé en la cruz es el precio justo que pagué por tus pecados. Al morir en tu lugar toda tu deuda fue saldada; mi sacrificio de amor por ti es completo y suficiente </a:t>
            </a:r>
            <a:r>
              <a:rPr b="0" lang="es-E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Comic Sans MS"/>
              </a:rPr>
              <a:t>(1 Pedro 1: 18, 19; Hebreos 10: 1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pull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4 Rectángulo"/>
          <p:cNvSpPr/>
          <p:nvPr/>
        </p:nvSpPr>
        <p:spPr>
          <a:xfrm>
            <a:off x="4357800" y="285840"/>
            <a:ext cx="4786200" cy="71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e sepultaron, y resucité al tercer día. Me presenté varias veces a mis discípul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(1 Corintios 15: 5, 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Comic Sans MS"/>
              </a:rPr>
              <a:t>Les mostré las señales de los clavos en mis manos y de la lanza en mi costad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8000">
    <p:pull dir="l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2 Rectángulo"/>
          <p:cNvSpPr/>
          <p:nvPr/>
        </p:nvSpPr>
        <p:spPr>
          <a:xfrm>
            <a:off x="4643280" y="189000"/>
            <a:ext cx="4500720" cy="75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ff"/>
                </a:solidFill>
                <a:latin typeface="Comic Sans MS"/>
              </a:rPr>
              <a:t>E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llos me vieron,  comieron conmigo, y creye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(Lucas 24: 36 – 4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Por creer en mi sin verme; ahora tu eres salvo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(Juan 20: 27 – 2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pull dir="u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6:00:09Z</dcterms:created>
  <dc:creator>Samira de Amalyiata</dc:creator>
  <dc:description/>
  <dc:language>en-US</dc:language>
  <cp:lastModifiedBy>JERUSALEN</cp:lastModifiedBy>
  <dcterms:modified xsi:type="dcterms:W3CDTF">2008-07-13T06:53:08Z</dcterms:modified>
  <cp:revision>283</cp:revision>
  <dc:subject/>
  <dc:title>Diapositiva 1</dc:title>
</cp:coreProperties>
</file>