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47C-6750-43C1-9583-1BD0DB66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B6D-73D1-4042-A8D6-E22EDF07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20D-1DF1-4EC3-B0DC-3211F38D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3EF-B2B2-4DF7-A953-95E55097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64E-5C77-4D22-9661-EFD82D5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3AB-8F60-4295-B563-83AC844B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268-9313-44F6-A949-99C6D35C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674-9391-4FFA-A111-AC3AE951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FFE-8531-4241-BFF6-2058AF3F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7F9-F12C-4757-936F-CC2FAFE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E9E-2A38-4BF9-BD4B-9A8A820E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E8D-E762-4C5B-A56D-C769859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B31-D0A2-4377-9134-8F08009018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 Pista 1.wma" descr=""/>
          <p:cNvPicPr/>
          <p:nvPr/>
        </p:nvPicPr>
        <p:blipFill>
          <a:blip r:embed="rId1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544500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39160"/>
            <a:ext cx="34196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诚 心 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天 父 耶 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口 里 认 耶 稣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 里 信 神 叫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他 从 死 里 复 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0: 9, 10)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宋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我 宣 布 遇 救 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信 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说 这 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以 弗 所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: 8, 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是 上 帝 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不 致 说 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民 数 记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3: 19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189440"/>
            <a:ext cx="28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是 罪 人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悔 改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宽 恕 我</a:t>
            </a:r>
            <a:r>
              <a:rPr b="0" lang="zh-CN" sz="3600" spc="-1" strike="noStrike">
                <a:solidFill>
                  <a:srgbClr val="00cc99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一 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9)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接 受 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世 主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上 帝 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88440"/>
            <a:ext cx="331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上 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 耶 稣 基 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 谢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 为 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木 头 上 流 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相 信 三 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你 复 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辩 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上 升 天 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我 父 面 前 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祈 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4: 25 -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路 加 福 音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4: 6, 7, 51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哥 林 多 前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5: 3, 4 –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希 伯 来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7: 25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 助 我 忠 于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阿 们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1228800">
            <a:off x="681120" y="904680"/>
            <a:ext cx="741348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21322800">
            <a:off x="2782440" y="1794600"/>
            <a:ext cx="417672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递 送 全 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!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我 请 你 不 停 止 请 你 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信 真 理 真 理 必 叫 你 们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得 以 自 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8: 32)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上 帝 祝 福 你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  <a:ea typeface="宋体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606920" y="333360"/>
            <a:ext cx="155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47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67280" cy="24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2050920" cy="20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50920" y="2421000"/>
            <a:ext cx="223380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6072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4859280" cy="443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0" y="4437000"/>
            <a:ext cx="209556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050920" y="4437000"/>
            <a:ext cx="3025800" cy="24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6200000">
            <a:off x="1359720" y="5416920"/>
            <a:ext cx="2160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Unicode MS"/>
              </a:rPr>
              <a:t>SEMIRAM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Unicode MS"/>
              <a:ea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836640"/>
            <a:ext cx="84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不 能 运 用 全 部 价 值 来 特 赦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工 作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祭 祀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著 名 的 宗 教 捐 项  能 购 买 一 个 永 生 灵 魂 给 天 堂</a:t>
            </a:r>
            <a:r>
              <a:rPr b="1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马 可 福 音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8: 36)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918440"/>
            <a:ext cx="8351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但 是 五 或 六 升 宝 贵 的 鲜 血 神 的 儿 子 成 为 人 的 样 式 流 血 在 十 字 架 上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死 在 我 们 的 位 置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足 够 能 胜 任 洗 涤 一 切 人 类 的 罪 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马 太 福 音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6: 28 -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: 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 22)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2000" y="371628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钉 在 十 字 架 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流 血 为 我 们 的 罪 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280836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他 儿 子 耶 稣 的 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也 洗 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我 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 切 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约 翰 一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7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333360"/>
            <a:ext cx="34560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宇 宙 的 创 世 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他 被 挂 在 木 头 上 亲 身 担 当 了 我 们 的 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2: 24),</a:t>
            </a:r>
            <a:r>
              <a:rPr b="0" lang="es-ES" sz="24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05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世 人 都 犯 了 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亏 缺 了 神 的 荣 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罗 马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3: 2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成 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完 成 使 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19: 30)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84720" y="404640"/>
            <a:ext cx="30592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此 后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一 切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人 类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接 受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神 的 羔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羊 祭 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3800" spc="-1" strike="noStrike">
                <a:solidFill>
                  <a:srgbClr val="ffff00"/>
                </a:solidFill>
                <a:latin typeface="Arial"/>
                <a:ea typeface="宋体"/>
              </a:rPr>
              <a:t>耶 稣 基 督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453708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就 这 样 还 债 用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借 着 基 督 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我 们 与 他 和 好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又 将 劝 人 与 他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和 好 的 职 分 赐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给 我 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8, 19 –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0: 10, 14 -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哥 林 多 后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18, 19 – 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罗 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9 - 11 -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20 - 22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549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因 全 部 足 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 帝 认 养 热 烈 爱 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给 我 永 生 在 天 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29 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1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836640"/>
            <a:ext cx="2735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 能 不 明 白 他 的 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 是 这 是 事 实 因 为“神 爱 世 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 至 将 他 的 独 生 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耶 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赐 给 他 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叫 一 切 信 他 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 至 灭 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 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 得 永 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 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3:16)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508640"/>
            <a:ext cx="8569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亲 爱 的 读 者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他   在 十 字 架 上   打 开 天 堂  的  门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4: 2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你 留 在 外 面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启 示 录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1: 27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. 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或  接 受 他 的 话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说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: “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到 那 时 候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凡 求 告 主 名 的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就 必 得 救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使 徒 行 传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: 21 -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罗 马 书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0: 13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”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Usuario</cp:lastModifiedBy>
  <dcterms:modified xsi:type="dcterms:W3CDTF">2008-03-12T22:10:04Z</dcterms:modified>
  <cp:revision>189</cp:revision>
  <dc:subject/>
  <dc:title>SU PRECIOSA SANGRE</dc:title>
</cp:coreProperties>
</file>