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5544800" cy="10058400"/>
  <p:notesSz cx="9266238" cy="147240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C87B-1ACE-45E5-875F-F532E4F37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41120" rIns="141120" tIns="70560" bIns="70560" anchor="ctr">
            <a:noAutofit/>
          </a:bodyPr>
          <a:p>
            <a:pPr indent="0" algn="ctr">
              <a:buNone/>
              <a:tabLst>
                <a:tab algn="l" pos="0"/>
                <a:tab algn="l" pos="1411200"/>
                <a:tab algn="l" pos="2822400"/>
                <a:tab algn="l" pos="4233960"/>
                <a:tab algn="l" pos="5645160"/>
                <a:tab algn="l" pos="7056360"/>
                <a:tab algn="l" pos="8467560"/>
                <a:tab algn="l" pos="9879120"/>
              </a:tabLst>
            </a:pPr>
            <a:endParaRPr b="0" lang="en-US" sz="6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2878920"/>
          </a:xfrm>
          <a:prstGeom prst="rect">
            <a:avLst/>
          </a:prstGeom>
          <a:noFill/>
          <a:ln w="0">
            <a:noFill/>
          </a:ln>
        </p:spPr>
        <p:txBody>
          <a:bodyPr lIns="141120" rIns="141120" tIns="70560" bIns="70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1411200"/>
                <a:tab algn="l" pos="2822400"/>
                <a:tab algn="l" pos="4233960"/>
                <a:tab algn="l" pos="5645160"/>
                <a:tab algn="l" pos="7056360"/>
                <a:tab algn="l" pos="8467560"/>
                <a:tab algn="l" pos="9879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65320" y="6058080"/>
            <a:ext cx="13214160" cy="2878920"/>
          </a:xfrm>
          <a:prstGeom prst="rect">
            <a:avLst/>
          </a:prstGeom>
          <a:noFill/>
          <a:ln w="0">
            <a:noFill/>
          </a:ln>
        </p:spPr>
        <p:txBody>
          <a:bodyPr lIns="141120" rIns="141120" tIns="70560" bIns="70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1411200"/>
                <a:tab algn="l" pos="2822400"/>
                <a:tab algn="l" pos="4233960"/>
                <a:tab algn="l" pos="5645160"/>
                <a:tab algn="l" pos="7056360"/>
                <a:tab algn="l" pos="8467560"/>
                <a:tab algn="l" pos="9879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4D04-B55F-47FA-B11B-FFAC630AE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41120" rIns="141120" tIns="70560" bIns="70560" anchor="ctr">
            <a:noAutofit/>
          </a:bodyPr>
          <a:p>
            <a:pPr indent="0" algn="ctr">
              <a:buNone/>
              <a:tabLst>
                <a:tab algn="l" pos="0"/>
                <a:tab algn="l" pos="1411200"/>
                <a:tab algn="l" pos="2822400"/>
                <a:tab algn="l" pos="4233960"/>
                <a:tab algn="l" pos="5645160"/>
                <a:tab algn="l" pos="7056360"/>
                <a:tab algn="l" pos="8467560"/>
                <a:tab algn="l" pos="9879120"/>
              </a:tabLst>
            </a:pPr>
            <a:endParaRPr b="0" lang="en-US" sz="6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6448320" cy="2878920"/>
          </a:xfrm>
          <a:prstGeom prst="rect">
            <a:avLst/>
          </a:prstGeom>
          <a:noFill/>
          <a:ln w="0">
            <a:noFill/>
          </a:ln>
        </p:spPr>
        <p:txBody>
          <a:bodyPr lIns="141120" rIns="141120" tIns="70560" bIns="70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1411200"/>
                <a:tab algn="l" pos="2822400"/>
                <a:tab algn="l" pos="4233960"/>
                <a:tab algn="l" pos="5645160"/>
                <a:tab algn="l" pos="7056360"/>
                <a:tab algn="l" pos="8467560"/>
                <a:tab algn="l" pos="9879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936560" y="2905200"/>
            <a:ext cx="6448320" cy="2878920"/>
          </a:xfrm>
          <a:prstGeom prst="rect">
            <a:avLst/>
          </a:prstGeom>
          <a:noFill/>
          <a:ln w="0">
            <a:noFill/>
          </a:ln>
        </p:spPr>
        <p:txBody>
          <a:bodyPr lIns="141120" rIns="141120" tIns="70560" bIns="70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1411200"/>
                <a:tab algn="l" pos="2822400"/>
                <a:tab algn="l" pos="4233960"/>
                <a:tab algn="l" pos="5645160"/>
                <a:tab algn="l" pos="7056360"/>
                <a:tab algn="l" pos="8467560"/>
                <a:tab algn="l" pos="9879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65320" y="6058080"/>
            <a:ext cx="6448320" cy="2878920"/>
          </a:xfrm>
          <a:prstGeom prst="rect">
            <a:avLst/>
          </a:prstGeom>
          <a:noFill/>
          <a:ln w="0">
            <a:noFill/>
          </a:ln>
        </p:spPr>
        <p:txBody>
          <a:bodyPr lIns="141120" rIns="141120" tIns="70560" bIns="70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1411200"/>
                <a:tab algn="l" pos="2822400"/>
                <a:tab algn="l" pos="4233960"/>
                <a:tab algn="l" pos="5645160"/>
                <a:tab algn="l" pos="7056360"/>
                <a:tab algn="l" pos="8467560"/>
                <a:tab algn="l" pos="9879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7936560" y="6058080"/>
            <a:ext cx="6448320" cy="2878920"/>
          </a:xfrm>
          <a:prstGeom prst="rect">
            <a:avLst/>
          </a:prstGeom>
          <a:noFill/>
          <a:ln w="0">
            <a:noFill/>
          </a:ln>
        </p:spPr>
        <p:txBody>
          <a:bodyPr lIns="141120" rIns="141120" tIns="70560" bIns="70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1411200"/>
                <a:tab algn="l" pos="2822400"/>
                <a:tab algn="l" pos="4233960"/>
                <a:tab algn="l" pos="5645160"/>
                <a:tab algn="l" pos="7056360"/>
                <a:tab algn="l" pos="8467560"/>
                <a:tab algn="l" pos="9879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7537-FDD4-4CDC-B7FF-73D2B49D6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41120" rIns="141120" tIns="70560" bIns="70560" anchor="ctr">
            <a:noAutofit/>
          </a:bodyPr>
          <a:p>
            <a:pPr indent="0" algn="ctr">
              <a:buNone/>
              <a:tabLst>
                <a:tab algn="l" pos="0"/>
                <a:tab algn="l" pos="1411200"/>
                <a:tab algn="l" pos="2822400"/>
                <a:tab algn="l" pos="4233960"/>
                <a:tab algn="l" pos="5645160"/>
                <a:tab algn="l" pos="7056360"/>
                <a:tab algn="l" pos="8467560"/>
                <a:tab algn="l" pos="9879120"/>
              </a:tabLst>
            </a:pPr>
            <a:endParaRPr b="0" lang="en-US" sz="6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4254840" cy="2878920"/>
          </a:xfrm>
          <a:prstGeom prst="rect">
            <a:avLst/>
          </a:prstGeom>
          <a:noFill/>
          <a:ln w="0">
            <a:noFill/>
          </a:ln>
        </p:spPr>
        <p:txBody>
          <a:bodyPr lIns="141120" rIns="141120" tIns="70560" bIns="70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1411200"/>
                <a:tab algn="l" pos="2822400"/>
                <a:tab algn="l" pos="4233960"/>
                <a:tab algn="l" pos="5645160"/>
                <a:tab algn="l" pos="7056360"/>
                <a:tab algn="l" pos="8467560"/>
                <a:tab algn="l" pos="9879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633280" y="2905200"/>
            <a:ext cx="4254840" cy="2878920"/>
          </a:xfrm>
          <a:prstGeom prst="rect">
            <a:avLst/>
          </a:prstGeom>
          <a:noFill/>
          <a:ln w="0">
            <a:noFill/>
          </a:ln>
        </p:spPr>
        <p:txBody>
          <a:bodyPr lIns="141120" rIns="141120" tIns="70560" bIns="70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1411200"/>
                <a:tab algn="l" pos="2822400"/>
                <a:tab algn="l" pos="4233960"/>
                <a:tab algn="l" pos="5645160"/>
                <a:tab algn="l" pos="7056360"/>
                <a:tab algn="l" pos="8467560"/>
                <a:tab algn="l" pos="9879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101240" y="2905200"/>
            <a:ext cx="4254840" cy="2878920"/>
          </a:xfrm>
          <a:prstGeom prst="rect">
            <a:avLst/>
          </a:prstGeom>
          <a:noFill/>
          <a:ln w="0">
            <a:noFill/>
          </a:ln>
        </p:spPr>
        <p:txBody>
          <a:bodyPr lIns="141120" rIns="141120" tIns="70560" bIns="70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1411200"/>
                <a:tab algn="l" pos="2822400"/>
                <a:tab algn="l" pos="4233960"/>
                <a:tab algn="l" pos="5645160"/>
                <a:tab algn="l" pos="7056360"/>
                <a:tab algn="l" pos="8467560"/>
                <a:tab algn="l" pos="9879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65320" y="6058080"/>
            <a:ext cx="4254840" cy="2878920"/>
          </a:xfrm>
          <a:prstGeom prst="rect">
            <a:avLst/>
          </a:prstGeom>
          <a:noFill/>
          <a:ln w="0">
            <a:noFill/>
          </a:ln>
        </p:spPr>
        <p:txBody>
          <a:bodyPr lIns="141120" rIns="141120" tIns="70560" bIns="70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1411200"/>
                <a:tab algn="l" pos="2822400"/>
                <a:tab algn="l" pos="4233960"/>
                <a:tab algn="l" pos="5645160"/>
                <a:tab algn="l" pos="7056360"/>
                <a:tab algn="l" pos="8467560"/>
                <a:tab algn="l" pos="9879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633280" y="6058080"/>
            <a:ext cx="4254840" cy="2878920"/>
          </a:xfrm>
          <a:prstGeom prst="rect">
            <a:avLst/>
          </a:prstGeom>
          <a:noFill/>
          <a:ln w="0">
            <a:noFill/>
          </a:ln>
        </p:spPr>
        <p:txBody>
          <a:bodyPr lIns="141120" rIns="141120" tIns="70560" bIns="70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1411200"/>
                <a:tab algn="l" pos="2822400"/>
                <a:tab algn="l" pos="4233960"/>
                <a:tab algn="l" pos="5645160"/>
                <a:tab algn="l" pos="7056360"/>
                <a:tab algn="l" pos="8467560"/>
                <a:tab algn="l" pos="9879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0101240" y="6058080"/>
            <a:ext cx="4254840" cy="2878920"/>
          </a:xfrm>
          <a:prstGeom prst="rect">
            <a:avLst/>
          </a:prstGeom>
          <a:noFill/>
          <a:ln w="0">
            <a:noFill/>
          </a:ln>
        </p:spPr>
        <p:txBody>
          <a:bodyPr lIns="141120" rIns="141120" tIns="70560" bIns="70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1411200"/>
                <a:tab algn="l" pos="2822400"/>
                <a:tab algn="l" pos="4233960"/>
                <a:tab algn="l" pos="5645160"/>
                <a:tab algn="l" pos="7056360"/>
                <a:tab algn="l" pos="8467560"/>
                <a:tab algn="l" pos="9879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5E35-573C-48B7-A3F3-E425D2D55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41120" rIns="141120" tIns="70560" bIns="70560" anchor="ctr">
            <a:noAutofit/>
          </a:bodyPr>
          <a:p>
            <a:pPr indent="0" algn="ctr">
              <a:buNone/>
              <a:tabLst>
                <a:tab algn="l" pos="0"/>
                <a:tab algn="l" pos="1411200"/>
                <a:tab algn="l" pos="2822400"/>
                <a:tab algn="l" pos="4233960"/>
                <a:tab algn="l" pos="5645160"/>
                <a:tab algn="l" pos="7056360"/>
                <a:tab algn="l" pos="8467560"/>
                <a:tab algn="l" pos="9879120"/>
              </a:tabLst>
            </a:pPr>
            <a:endParaRPr b="0" lang="en-US" sz="6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25"/>
              </a:spcBef>
              <a:buNone/>
              <a:tabLst>
                <a:tab algn="l" pos="0"/>
                <a:tab algn="l" pos="1411200"/>
                <a:tab algn="l" pos="2822400"/>
                <a:tab algn="l" pos="4233960"/>
                <a:tab algn="l" pos="5645160"/>
                <a:tab algn="l" pos="7056360"/>
                <a:tab algn="l" pos="8467560"/>
                <a:tab algn="l" pos="9879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6119-D1D3-46E4-8593-BD58EE0D5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41120" rIns="141120" tIns="70560" bIns="70560" anchor="ctr">
            <a:noAutofit/>
          </a:bodyPr>
          <a:p>
            <a:pPr indent="0" algn="ctr">
              <a:buNone/>
              <a:tabLst>
                <a:tab algn="l" pos="0"/>
                <a:tab algn="l" pos="1411200"/>
                <a:tab algn="l" pos="2822400"/>
                <a:tab algn="l" pos="4233960"/>
                <a:tab algn="l" pos="5645160"/>
                <a:tab algn="l" pos="7056360"/>
                <a:tab algn="l" pos="8467560"/>
                <a:tab algn="l" pos="9879120"/>
              </a:tabLst>
            </a:pPr>
            <a:endParaRPr b="0" lang="en-US" sz="6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41120" rIns="141120" tIns="70560" bIns="70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1411200"/>
                <a:tab algn="l" pos="2822400"/>
                <a:tab algn="l" pos="4233960"/>
                <a:tab algn="l" pos="5645160"/>
                <a:tab algn="l" pos="7056360"/>
                <a:tab algn="l" pos="8467560"/>
                <a:tab algn="l" pos="9879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8DB7-F467-4550-98F2-7ACED648B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41120" rIns="141120" tIns="70560" bIns="70560" anchor="ctr">
            <a:noAutofit/>
          </a:bodyPr>
          <a:p>
            <a:pPr indent="0" algn="ctr">
              <a:buNone/>
              <a:tabLst>
                <a:tab algn="l" pos="0"/>
                <a:tab algn="l" pos="1411200"/>
                <a:tab algn="l" pos="2822400"/>
                <a:tab algn="l" pos="4233960"/>
                <a:tab algn="l" pos="5645160"/>
                <a:tab algn="l" pos="7056360"/>
                <a:tab algn="l" pos="8467560"/>
                <a:tab algn="l" pos="9879120"/>
              </a:tabLst>
            </a:pPr>
            <a:endParaRPr b="0" lang="en-US" sz="6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6448320" cy="6035760"/>
          </a:xfrm>
          <a:prstGeom prst="rect">
            <a:avLst/>
          </a:prstGeom>
          <a:noFill/>
          <a:ln w="0">
            <a:noFill/>
          </a:ln>
        </p:spPr>
        <p:txBody>
          <a:bodyPr lIns="141120" rIns="141120" tIns="70560" bIns="70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1411200"/>
                <a:tab algn="l" pos="2822400"/>
                <a:tab algn="l" pos="4233960"/>
                <a:tab algn="l" pos="5645160"/>
                <a:tab algn="l" pos="7056360"/>
                <a:tab algn="l" pos="8467560"/>
                <a:tab algn="l" pos="9879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7936560" y="2905200"/>
            <a:ext cx="6448320" cy="6035760"/>
          </a:xfrm>
          <a:prstGeom prst="rect">
            <a:avLst/>
          </a:prstGeom>
          <a:noFill/>
          <a:ln w="0">
            <a:noFill/>
          </a:ln>
        </p:spPr>
        <p:txBody>
          <a:bodyPr lIns="141120" rIns="141120" tIns="70560" bIns="70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1411200"/>
                <a:tab algn="l" pos="2822400"/>
                <a:tab algn="l" pos="4233960"/>
                <a:tab algn="l" pos="5645160"/>
                <a:tab algn="l" pos="7056360"/>
                <a:tab algn="l" pos="8467560"/>
                <a:tab algn="l" pos="9879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4D16-5F5E-493F-ABCC-7AC8C7B5A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41120" rIns="141120" tIns="70560" bIns="70560" anchor="ctr">
            <a:noAutofit/>
          </a:bodyPr>
          <a:p>
            <a:pPr indent="0" algn="ctr">
              <a:buNone/>
              <a:tabLst>
                <a:tab algn="l" pos="0"/>
                <a:tab algn="l" pos="1411200"/>
                <a:tab algn="l" pos="2822400"/>
                <a:tab algn="l" pos="4233960"/>
                <a:tab algn="l" pos="5645160"/>
                <a:tab algn="l" pos="7056360"/>
                <a:tab algn="l" pos="8467560"/>
                <a:tab algn="l" pos="9879120"/>
              </a:tabLst>
            </a:pPr>
            <a:endParaRPr b="0" lang="en-US" sz="6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8A8D-A76E-48D8-AE72-ED75F3D9A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65320" y="893880"/>
            <a:ext cx="13214160" cy="77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25"/>
              </a:spcBef>
              <a:tabLst>
                <a:tab algn="l" pos="0"/>
                <a:tab algn="l" pos="1411200"/>
                <a:tab algn="l" pos="2822400"/>
                <a:tab algn="l" pos="4233960"/>
                <a:tab algn="l" pos="5645160"/>
                <a:tab algn="l" pos="7056360"/>
                <a:tab algn="l" pos="8467560"/>
                <a:tab algn="l" pos="9879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E217-5934-4331-85CD-C3FEDC70A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41120" rIns="141120" tIns="70560" bIns="70560" anchor="ctr">
            <a:noAutofit/>
          </a:bodyPr>
          <a:p>
            <a:pPr indent="0" algn="ctr">
              <a:buNone/>
              <a:tabLst>
                <a:tab algn="l" pos="0"/>
                <a:tab algn="l" pos="1411200"/>
                <a:tab algn="l" pos="2822400"/>
                <a:tab algn="l" pos="4233960"/>
                <a:tab algn="l" pos="5645160"/>
                <a:tab algn="l" pos="7056360"/>
                <a:tab algn="l" pos="8467560"/>
                <a:tab algn="l" pos="9879120"/>
              </a:tabLst>
            </a:pPr>
            <a:endParaRPr b="0" lang="en-US" sz="6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6448320" cy="2878920"/>
          </a:xfrm>
          <a:prstGeom prst="rect">
            <a:avLst/>
          </a:prstGeom>
          <a:noFill/>
          <a:ln w="0">
            <a:noFill/>
          </a:ln>
        </p:spPr>
        <p:txBody>
          <a:bodyPr lIns="141120" rIns="141120" tIns="70560" bIns="70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1411200"/>
                <a:tab algn="l" pos="2822400"/>
                <a:tab algn="l" pos="4233960"/>
                <a:tab algn="l" pos="5645160"/>
                <a:tab algn="l" pos="7056360"/>
                <a:tab algn="l" pos="8467560"/>
                <a:tab algn="l" pos="9879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7936560" y="2905200"/>
            <a:ext cx="6448320" cy="6035760"/>
          </a:xfrm>
          <a:prstGeom prst="rect">
            <a:avLst/>
          </a:prstGeom>
          <a:noFill/>
          <a:ln w="0">
            <a:noFill/>
          </a:ln>
        </p:spPr>
        <p:txBody>
          <a:bodyPr lIns="141120" rIns="141120" tIns="70560" bIns="70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1411200"/>
                <a:tab algn="l" pos="2822400"/>
                <a:tab algn="l" pos="4233960"/>
                <a:tab algn="l" pos="5645160"/>
                <a:tab algn="l" pos="7056360"/>
                <a:tab algn="l" pos="8467560"/>
                <a:tab algn="l" pos="9879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65320" y="6058080"/>
            <a:ext cx="6448320" cy="2878920"/>
          </a:xfrm>
          <a:prstGeom prst="rect">
            <a:avLst/>
          </a:prstGeom>
          <a:noFill/>
          <a:ln w="0">
            <a:noFill/>
          </a:ln>
        </p:spPr>
        <p:txBody>
          <a:bodyPr lIns="141120" rIns="141120" tIns="70560" bIns="70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1411200"/>
                <a:tab algn="l" pos="2822400"/>
                <a:tab algn="l" pos="4233960"/>
                <a:tab algn="l" pos="5645160"/>
                <a:tab algn="l" pos="7056360"/>
                <a:tab algn="l" pos="8467560"/>
                <a:tab algn="l" pos="9879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C4D6-72A1-4766-9040-538F0B363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41120" rIns="141120" tIns="70560" bIns="70560" anchor="ctr">
            <a:noAutofit/>
          </a:bodyPr>
          <a:p>
            <a:pPr indent="0" algn="ctr">
              <a:buNone/>
              <a:tabLst>
                <a:tab algn="l" pos="0"/>
                <a:tab algn="l" pos="1411200"/>
                <a:tab algn="l" pos="2822400"/>
                <a:tab algn="l" pos="4233960"/>
                <a:tab algn="l" pos="5645160"/>
                <a:tab algn="l" pos="7056360"/>
                <a:tab algn="l" pos="8467560"/>
                <a:tab algn="l" pos="9879120"/>
              </a:tabLst>
            </a:pPr>
            <a:endParaRPr b="0" lang="en-US" sz="6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6448320" cy="6035760"/>
          </a:xfrm>
          <a:prstGeom prst="rect">
            <a:avLst/>
          </a:prstGeom>
          <a:noFill/>
          <a:ln w="0">
            <a:noFill/>
          </a:ln>
        </p:spPr>
        <p:txBody>
          <a:bodyPr lIns="141120" rIns="141120" tIns="70560" bIns="70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1411200"/>
                <a:tab algn="l" pos="2822400"/>
                <a:tab algn="l" pos="4233960"/>
                <a:tab algn="l" pos="5645160"/>
                <a:tab algn="l" pos="7056360"/>
                <a:tab algn="l" pos="8467560"/>
                <a:tab algn="l" pos="9879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7936560" y="2905200"/>
            <a:ext cx="6448320" cy="2878920"/>
          </a:xfrm>
          <a:prstGeom prst="rect">
            <a:avLst/>
          </a:prstGeom>
          <a:noFill/>
          <a:ln w="0">
            <a:noFill/>
          </a:ln>
        </p:spPr>
        <p:txBody>
          <a:bodyPr lIns="141120" rIns="141120" tIns="70560" bIns="70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1411200"/>
                <a:tab algn="l" pos="2822400"/>
                <a:tab algn="l" pos="4233960"/>
                <a:tab algn="l" pos="5645160"/>
                <a:tab algn="l" pos="7056360"/>
                <a:tab algn="l" pos="8467560"/>
                <a:tab algn="l" pos="9879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936560" y="6058080"/>
            <a:ext cx="6448320" cy="2878920"/>
          </a:xfrm>
          <a:prstGeom prst="rect">
            <a:avLst/>
          </a:prstGeom>
          <a:noFill/>
          <a:ln w="0">
            <a:noFill/>
          </a:ln>
        </p:spPr>
        <p:txBody>
          <a:bodyPr lIns="141120" rIns="141120" tIns="70560" bIns="70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1411200"/>
                <a:tab algn="l" pos="2822400"/>
                <a:tab algn="l" pos="4233960"/>
                <a:tab algn="l" pos="5645160"/>
                <a:tab algn="l" pos="7056360"/>
                <a:tab algn="l" pos="8467560"/>
                <a:tab algn="l" pos="9879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6923-B508-4F37-89A6-C360C4DB6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41120" rIns="141120" tIns="70560" bIns="70560" anchor="ctr">
            <a:noAutofit/>
          </a:bodyPr>
          <a:p>
            <a:pPr indent="0" algn="ctr">
              <a:buNone/>
              <a:tabLst>
                <a:tab algn="l" pos="0"/>
                <a:tab algn="l" pos="1411200"/>
                <a:tab algn="l" pos="2822400"/>
                <a:tab algn="l" pos="4233960"/>
                <a:tab algn="l" pos="5645160"/>
                <a:tab algn="l" pos="7056360"/>
                <a:tab algn="l" pos="8467560"/>
                <a:tab algn="l" pos="9879120"/>
              </a:tabLst>
            </a:pPr>
            <a:endParaRPr b="0" lang="en-US" sz="6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6448320" cy="2878920"/>
          </a:xfrm>
          <a:prstGeom prst="rect">
            <a:avLst/>
          </a:prstGeom>
          <a:noFill/>
          <a:ln w="0">
            <a:noFill/>
          </a:ln>
        </p:spPr>
        <p:txBody>
          <a:bodyPr lIns="141120" rIns="141120" tIns="70560" bIns="70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1411200"/>
                <a:tab algn="l" pos="2822400"/>
                <a:tab algn="l" pos="4233960"/>
                <a:tab algn="l" pos="5645160"/>
                <a:tab algn="l" pos="7056360"/>
                <a:tab algn="l" pos="8467560"/>
                <a:tab algn="l" pos="9879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7936560" y="2905200"/>
            <a:ext cx="6448320" cy="2878920"/>
          </a:xfrm>
          <a:prstGeom prst="rect">
            <a:avLst/>
          </a:prstGeom>
          <a:noFill/>
          <a:ln w="0">
            <a:noFill/>
          </a:ln>
        </p:spPr>
        <p:txBody>
          <a:bodyPr lIns="141120" rIns="141120" tIns="70560" bIns="70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1411200"/>
                <a:tab algn="l" pos="2822400"/>
                <a:tab algn="l" pos="4233960"/>
                <a:tab algn="l" pos="5645160"/>
                <a:tab algn="l" pos="7056360"/>
                <a:tab algn="l" pos="8467560"/>
                <a:tab algn="l" pos="9879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65320" y="6058080"/>
            <a:ext cx="13214160" cy="2878920"/>
          </a:xfrm>
          <a:prstGeom prst="rect">
            <a:avLst/>
          </a:prstGeom>
          <a:noFill/>
          <a:ln w="0">
            <a:noFill/>
          </a:ln>
        </p:spPr>
        <p:txBody>
          <a:bodyPr lIns="141120" rIns="141120" tIns="70560" bIns="70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1411200"/>
                <a:tab algn="l" pos="2822400"/>
                <a:tab algn="l" pos="4233960"/>
                <a:tab algn="l" pos="5645160"/>
                <a:tab algn="l" pos="7056360"/>
                <a:tab algn="l" pos="8467560"/>
                <a:tab algn="l" pos="9879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3C00-AA9B-40E6-852F-F2A6943D7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41120" rIns="141120" tIns="70560" bIns="70560" anchor="ctr">
            <a:noAutofit/>
          </a:bodyPr>
          <a:p>
            <a:pPr indent="0" algn="ctr">
              <a:buNone/>
              <a:tabLst>
                <a:tab algn="l" pos="0"/>
                <a:tab algn="l" pos="1411200"/>
                <a:tab algn="l" pos="2822400"/>
                <a:tab algn="l" pos="4233960"/>
                <a:tab algn="l" pos="5645160"/>
                <a:tab algn="l" pos="7056360"/>
                <a:tab algn="l" pos="8467560"/>
                <a:tab algn="l" pos="9879120"/>
              </a:tabLst>
            </a:pPr>
            <a:r>
              <a:rPr b="0" lang="en-US" sz="6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6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41120" rIns="141120" tIns="70560" bIns="70560" anchor="t">
            <a:normAutofit fontScale="95000"/>
          </a:bodyPr>
          <a:p>
            <a:pPr marL="503640" indent="-503640">
              <a:spcBef>
                <a:spcPts val="1225"/>
              </a:spcBef>
              <a:buClr>
                <a:srgbClr val="000000"/>
              </a:buClr>
              <a:buFont typeface="Times New Roman"/>
              <a:buChar char="•"/>
              <a:tabLst>
                <a:tab algn="l" pos="1411200"/>
                <a:tab algn="l" pos="2822400"/>
                <a:tab algn="l" pos="4233960"/>
                <a:tab algn="l" pos="5645160"/>
                <a:tab algn="l" pos="7056360"/>
                <a:tab algn="l" pos="8467560"/>
                <a:tab algn="l" pos="98791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 lvl="1" marL="1088640" indent="-419040">
              <a:spcBef>
                <a:spcPts val="1225"/>
              </a:spcBef>
              <a:buClr>
                <a:srgbClr val="000000"/>
              </a:buClr>
              <a:buFont typeface="Times New Roman"/>
              <a:buChar char="–"/>
              <a:tabLst>
                <a:tab algn="l" pos="1411200"/>
                <a:tab algn="l" pos="2822400"/>
                <a:tab algn="l" pos="4233960"/>
                <a:tab algn="l" pos="5645160"/>
                <a:tab algn="l" pos="7056360"/>
                <a:tab algn="l" pos="8467560"/>
                <a:tab algn="l" pos="98791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 lvl="2" marL="1674000" indent="-333360">
              <a:spcBef>
                <a:spcPts val="1225"/>
              </a:spcBef>
              <a:buClr>
                <a:srgbClr val="000000"/>
              </a:buClr>
              <a:buFont typeface="Times New Roman"/>
              <a:buChar char="•"/>
              <a:tabLst>
                <a:tab algn="l" pos="1411200"/>
                <a:tab algn="l" pos="2822400"/>
                <a:tab algn="l" pos="4233960"/>
                <a:tab algn="l" pos="5645160"/>
                <a:tab algn="l" pos="7056360"/>
                <a:tab algn="l" pos="8467560"/>
                <a:tab algn="l" pos="98791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 lvl="3" marL="2346480" indent="-336240">
              <a:spcBef>
                <a:spcPts val="1225"/>
              </a:spcBef>
              <a:buClr>
                <a:srgbClr val="000000"/>
              </a:buClr>
              <a:buFont typeface="Times New Roman"/>
              <a:buChar char="–"/>
              <a:tabLst>
                <a:tab algn="l" pos="1411200"/>
                <a:tab algn="l" pos="2822400"/>
                <a:tab algn="l" pos="4233960"/>
                <a:tab algn="l" pos="5645160"/>
                <a:tab algn="l" pos="7056360"/>
                <a:tab algn="l" pos="8467560"/>
                <a:tab algn="l" pos="98791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 lvl="4" marL="3016080" indent="-335880">
              <a:spcBef>
                <a:spcPts val="1225"/>
              </a:spcBef>
              <a:buClr>
                <a:srgbClr val="000000"/>
              </a:buClr>
              <a:buFont typeface="Times New Roman"/>
              <a:buChar char="»"/>
              <a:tabLst>
                <a:tab algn="l" pos="1411200"/>
                <a:tab algn="l" pos="2822400"/>
                <a:tab algn="l" pos="4233960"/>
                <a:tab algn="l" pos="5645160"/>
                <a:tab algn="l" pos="7056360"/>
                <a:tab algn="l" pos="8467560"/>
                <a:tab algn="l" pos="98791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 lvl="5" marL="3016080" indent="-335880">
              <a:spcBef>
                <a:spcPts val="1225"/>
              </a:spcBef>
              <a:buClr>
                <a:srgbClr val="000000"/>
              </a:buClr>
              <a:buFont typeface="Times New Roman"/>
              <a:buChar char="»"/>
              <a:tabLst>
                <a:tab algn="l" pos="1411200"/>
                <a:tab algn="l" pos="2822400"/>
                <a:tab algn="l" pos="4233960"/>
                <a:tab algn="l" pos="5645160"/>
                <a:tab algn="l" pos="7056360"/>
                <a:tab algn="l" pos="8467560"/>
                <a:tab algn="l" pos="98791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 lvl="6" marL="3016080" indent="-335880">
              <a:spcBef>
                <a:spcPts val="1225"/>
              </a:spcBef>
              <a:buClr>
                <a:srgbClr val="000000"/>
              </a:buClr>
              <a:buFont typeface="Times New Roman"/>
              <a:buChar char="»"/>
              <a:tabLst>
                <a:tab algn="l" pos="1411200"/>
                <a:tab algn="l" pos="2822400"/>
                <a:tab algn="l" pos="4233960"/>
                <a:tab algn="l" pos="5645160"/>
                <a:tab algn="l" pos="7056360"/>
                <a:tab algn="l" pos="8467560"/>
                <a:tab algn="l" pos="98791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65320" y="9164160"/>
            <a:ext cx="3238560" cy="669960"/>
          </a:xfrm>
          <a:prstGeom prst="rect">
            <a:avLst/>
          </a:prstGeom>
          <a:noFill/>
          <a:ln w="0">
            <a:noFill/>
          </a:ln>
        </p:spPr>
        <p:txBody>
          <a:bodyPr lIns="141120" rIns="141120" tIns="70560" bIns="70560" anchor="t">
            <a:noAutofit/>
          </a:bodyPr>
          <a:lstStyle>
            <a:lvl1pPr indent="0">
              <a:buNone/>
              <a:tabLst>
                <a:tab algn="l" pos="0"/>
                <a:tab algn="l" pos="1411200"/>
                <a:tab algn="l" pos="2822400"/>
                <a:tab algn="l" pos="4233960"/>
                <a:tab algn="l" pos="5645160"/>
                <a:tab algn="l" pos="7056360"/>
                <a:tab algn="l" pos="8467560"/>
                <a:tab algn="l" pos="9879120"/>
              </a:tabLst>
              <a:defRPr b="0" lang="en-US" sz="2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411200"/>
                <a:tab algn="l" pos="2822400"/>
                <a:tab algn="l" pos="4233960"/>
                <a:tab algn="l" pos="5645160"/>
                <a:tab algn="l" pos="7056360"/>
                <a:tab algn="l" pos="8467560"/>
                <a:tab algn="l" pos="9879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311800" y="9164160"/>
            <a:ext cx="4921200" cy="669960"/>
          </a:xfrm>
          <a:prstGeom prst="rect">
            <a:avLst/>
          </a:prstGeom>
          <a:noFill/>
          <a:ln w="0">
            <a:noFill/>
          </a:ln>
        </p:spPr>
        <p:txBody>
          <a:bodyPr lIns="141120" rIns="141120" tIns="70560" bIns="70560" anchor="t">
            <a:noAutofit/>
          </a:bodyPr>
          <a:lstStyle>
            <a:lvl1pPr indent="0" algn="ctr">
              <a:buNone/>
              <a:tabLst>
                <a:tab algn="l" pos="0"/>
                <a:tab algn="l" pos="1411200"/>
                <a:tab algn="l" pos="2822400"/>
                <a:tab algn="l" pos="4233960"/>
                <a:tab algn="l" pos="5645160"/>
                <a:tab algn="l" pos="7056360"/>
                <a:tab algn="l" pos="8467560"/>
                <a:tab algn="l" pos="9879120"/>
              </a:tabLst>
              <a:defRPr b="0" lang="en-US" sz="2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411200"/>
                <a:tab algn="l" pos="2822400"/>
                <a:tab algn="l" pos="4233960"/>
                <a:tab algn="l" pos="5645160"/>
                <a:tab algn="l" pos="7056360"/>
                <a:tab algn="l" pos="8467560"/>
                <a:tab algn="l" pos="9879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1140920" y="9164160"/>
            <a:ext cx="3238560" cy="669960"/>
          </a:xfrm>
          <a:prstGeom prst="rect">
            <a:avLst/>
          </a:prstGeom>
          <a:noFill/>
          <a:ln w="0">
            <a:noFill/>
          </a:ln>
        </p:spPr>
        <p:txBody>
          <a:bodyPr lIns="141120" rIns="141120" tIns="70560" bIns="70560" anchor="t">
            <a:noAutofit/>
          </a:bodyPr>
          <a:lstStyle>
            <a:lvl1pPr indent="0" algn="r">
              <a:buNone/>
              <a:tabLst>
                <a:tab algn="l" pos="0"/>
                <a:tab algn="l" pos="1411200"/>
                <a:tab algn="l" pos="2822400"/>
                <a:tab algn="l" pos="4233960"/>
                <a:tab algn="l" pos="5645160"/>
                <a:tab algn="l" pos="7056360"/>
                <a:tab algn="l" pos="8467560"/>
                <a:tab algn="l" pos="9879120"/>
              </a:tabLst>
              <a:defRPr b="0" lang="en-US" sz="2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411200"/>
                <a:tab algn="l" pos="2822400"/>
                <a:tab algn="l" pos="4233960"/>
                <a:tab algn="l" pos="5645160"/>
                <a:tab algn="l" pos="7056360"/>
                <a:tab algn="l" pos="8467560"/>
                <a:tab algn="l" pos="9879120"/>
              </a:tabLst>
            </a:pPr>
            <a:fld id="{C81653C1-7FCD-4516-85EF-0C2260F82910}" type="slidenum"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5311800" y="9164160"/>
            <a:ext cx="4921200" cy="669960"/>
          </a:xfrm>
          <a:prstGeom prst="rect">
            <a:avLst/>
          </a:prstGeom>
          <a:noFill/>
          <a:ln w="0">
            <a:noFill/>
          </a:ln>
        </p:spPr>
        <p:txBody>
          <a:bodyPr lIns="141120" rIns="141120" tIns="70560" bIns="70560" anchor="t">
            <a:noAutofit/>
          </a:bodyPr>
          <a:p>
            <a:pPr algn="ctr">
              <a:tabLst>
                <a:tab algn="l" pos="0"/>
                <a:tab algn="l" pos="1411200"/>
                <a:tab algn="l" pos="2822400"/>
                <a:tab algn="l" pos="4233960"/>
                <a:tab algn="l" pos="5645160"/>
                <a:tab algn="l" pos="7056360"/>
                <a:tab algn="l" pos="8467560"/>
                <a:tab algn="l" pos="9879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165320" y="9164160"/>
            <a:ext cx="3238560" cy="669960"/>
          </a:xfrm>
          <a:prstGeom prst="rect">
            <a:avLst/>
          </a:prstGeom>
          <a:noFill/>
          <a:ln w="0">
            <a:noFill/>
          </a:ln>
        </p:spPr>
        <p:txBody>
          <a:bodyPr lIns="141120" rIns="141120" tIns="70560" bIns="70560" anchor="t">
            <a:noAutofit/>
          </a:bodyPr>
          <a:p>
            <a:pPr>
              <a:tabLst>
                <a:tab algn="l" pos="0"/>
                <a:tab algn="l" pos="1411200"/>
                <a:tab algn="l" pos="2822400"/>
                <a:tab algn="l" pos="4233960"/>
                <a:tab algn="l" pos="5645160"/>
                <a:tab algn="l" pos="7056360"/>
                <a:tab algn="l" pos="8467560"/>
                <a:tab algn="l" pos="9879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0840" y="150840"/>
            <a:ext cx="15089040" cy="960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776920" y="9372240"/>
            <a:ext cx="42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xf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362320" y="3733920"/>
            <a:ext cx="3808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743200" y="3733920"/>
            <a:ext cx="3808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3733920"/>
            <a:ext cx="3812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505320" y="3733920"/>
            <a:ext cx="3808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86200" y="3733920"/>
            <a:ext cx="3808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267080" y="3733920"/>
            <a:ext cx="3812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648320" y="3733920"/>
            <a:ext cx="3808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3733920"/>
            <a:ext cx="3808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410080" y="3733920"/>
            <a:ext cx="3812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791320" y="3733920"/>
            <a:ext cx="3808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172200" y="3733920"/>
            <a:ext cx="3808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553080" y="3733920"/>
            <a:ext cx="3812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5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934320" y="3733920"/>
            <a:ext cx="3808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5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15200" y="3733920"/>
            <a:ext cx="3808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696080" y="3733920"/>
            <a:ext cx="3812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077320" y="3733920"/>
            <a:ext cx="3808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458200" y="3733920"/>
            <a:ext cx="3808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839080" y="3733920"/>
            <a:ext cx="3812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220320" y="3733920"/>
            <a:ext cx="3808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601200" y="3733920"/>
            <a:ext cx="3808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982080" y="3733920"/>
            <a:ext cx="3812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63320" y="3733920"/>
            <a:ext cx="3808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0744200" y="3733920"/>
            <a:ext cx="3808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1125080" y="3733920"/>
            <a:ext cx="3812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1506320" y="3733920"/>
            <a:ext cx="3808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887200" y="3733920"/>
            <a:ext cx="3808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2268080" y="3733920"/>
            <a:ext cx="3812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649320" y="3733920"/>
            <a:ext cx="3808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030200" y="3733920"/>
            <a:ext cx="3808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3411080" y="3733920"/>
            <a:ext cx="3812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3792320" y="3733920"/>
            <a:ext cx="3808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4173200" y="3733920"/>
            <a:ext cx="3808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65720" y="3656880"/>
            <a:ext cx="10036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NTIGUO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LOCK#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362320" y="4267080"/>
            <a:ext cx="45720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934320" y="4267080"/>
            <a:ext cx="45720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1506320" y="426708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1506320" y="4495680"/>
            <a:ext cx="259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12280" y="4266360"/>
            <a:ext cx="1521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XTENT BOUNDAR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323840" y="2925000"/>
            <a:ext cx="59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ED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077320" y="30481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2361960" y="3048120"/>
            <a:ext cx="480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886200" y="4343400"/>
            <a:ext cx="30492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070160" y="5249160"/>
            <a:ext cx="473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 M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227560" y="3817800"/>
            <a:ext cx="30492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423040" y="4723560"/>
            <a:ext cx="45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 K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10T16:36:24Z</dcterms:created>
  <dc:creator>Ampex Corporation</dc:creator>
  <dc:description/>
  <dc:language>en-US</dc:language>
  <cp:lastModifiedBy>les</cp:lastModifiedBy>
  <cp:lastPrinted>2007-01-19T17:23:56Z</cp:lastPrinted>
  <dcterms:modified xsi:type="dcterms:W3CDTF">2007-01-19T21:15:12Z</dcterms:modified>
  <cp:revision>639</cp:revision>
  <dc:subject/>
  <dc:title>No Slide Title</dc:title>
</cp:coreProperties>
</file>