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544800" cy="10058400"/>
  <p:notesSz cx="9266238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471-C129-4487-A52F-F519D5E2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B60-C4D9-4A4A-8D26-95B4FBF8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4AF-5614-43AE-B2E9-4196018F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397-2559-4A78-A7E6-7DFCC7F0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B41-8873-45EF-AA94-2176671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861-1C53-437A-93A1-6CE664E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327-3308-405F-AA64-79EDC36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F02-77DA-4A85-B872-7D153A1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6EF-43B5-4B25-83D2-352A8BF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753-6F05-42D4-BAC8-5CA7D7E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11C-61CE-4ECE-B76C-5886227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04C-2BA1-45CD-9797-EDE15C5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 fontScale="95000"/>
          </a:bodyPr>
          <a:p>
            <a:pPr marL="503640" indent="-5036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8640" indent="-4190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2" marL="1674000" indent="-33336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3" marL="2346480" indent="-3362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4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5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6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10C53BFF-8D8C-439B-AF7D-8DCEC1CC61B4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algn="ct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150840"/>
            <a:ext cx="15089040" cy="960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76920" y="9372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39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20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01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82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63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44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25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06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68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49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30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411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9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20" y="3656880"/>
            <a:ext cx="100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OCK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063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06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2280" y="426636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23840" y="2925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1960" y="30481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343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0160" y="524916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27560" y="3817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3040" y="472356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6:36:24Z</dcterms:created>
  <dc:creator>Ampex Corporation</dc:creator>
  <dc:description/>
  <dc:language>en-US</dc:language>
  <cp:lastModifiedBy>les</cp:lastModifiedBy>
  <cp:lastPrinted>2007-01-19T17:23:56Z</cp:lastPrinted>
  <dcterms:modified xsi:type="dcterms:W3CDTF">2007-01-19T21:15:12Z</dcterms:modified>
  <cp:revision>639</cp:revision>
  <dc:subject/>
  <dc:title>No Slide Title</dc:title>
</cp:coreProperties>
</file>