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544800" cy="10058400"/>
  <p:notesSz cx="9266238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F58-15C8-4428-A4A2-86D72129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810-4D00-4B47-8831-9A87FA38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BE2-E51E-4AA0-86DE-60BC9840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F9B-F2F7-4406-A40A-0442C3F5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EB4-AF3D-4879-814C-738A1EF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310-F471-4DAD-A8EF-2C6F6D5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B11-16E8-4883-88BD-7C607AB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7B1-FD8E-4C6E-A9E5-12341B96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1C0-EB53-43B1-AFDD-07C41EF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C99-39CD-42C7-9A4E-7F857E3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02F-8ECA-423B-A6F1-5B39F9C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145-D3AA-4F99-833B-FD838B1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 fontScale="95000"/>
          </a:bodyPr>
          <a:p>
            <a:pPr marL="503640" indent="-5036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8640" indent="-4190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2" marL="1674000" indent="-33336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3" marL="2346480" indent="-3362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4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5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6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A9F9302E-03ED-4622-8A3C-A763547B4C10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algn="ct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150840"/>
            <a:ext cx="15089040" cy="960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76920" y="9372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39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20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01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82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63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44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25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06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68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49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30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411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9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20" y="3656880"/>
            <a:ext cx="100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OCK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063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06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2280" y="426636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23840" y="2925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1960" y="30481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343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0160" y="524916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27560" y="3817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3040" y="472356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6:36:24Z</dcterms:created>
  <dc:creator>Ampex Corporation</dc:creator>
  <dc:description/>
  <dc:language>en-US</dc:language>
  <cp:lastModifiedBy>les</cp:lastModifiedBy>
  <cp:lastPrinted>2007-01-19T17:23:56Z</cp:lastPrinted>
  <dcterms:modified xsi:type="dcterms:W3CDTF">2007-01-19T21:15:12Z</dcterms:modified>
  <cp:revision>639</cp:revision>
  <dc:subject/>
  <dc:title>No Slide Title</dc:title>
</cp:coreProperties>
</file>