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544800" cy="10058400"/>
  <p:notesSz cx="9266238" cy="147240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5EF-0B22-49FE-8E9E-BDD16959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CA80-99B8-4F8E-9385-D7D4D33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90E-C421-4CD4-AA13-AE0A5CD8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3328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01240" y="290520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6532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3328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01240" y="6058080"/>
            <a:ext cx="425484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C11-6BF0-41AF-9F8A-BE785B90C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406-D476-483F-AD84-D98013FC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2382-F3EB-48E3-A253-7B8386B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84E-F374-4E46-A649-B298A07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9FF-8C2C-4E15-9469-1B95B5C4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65320" y="893880"/>
            <a:ext cx="1321416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C3E-487C-4BFF-89B7-7AC1669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7FD-EE69-4436-8DCF-4421B7F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36560" y="605808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93B-E9FF-4646-B2D5-D780F983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6532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36560" y="2905200"/>
            <a:ext cx="644832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65320" y="6058080"/>
            <a:ext cx="13214160" cy="287892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414-A997-4CD1-9462-CEB40DA8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65320" y="893880"/>
            <a:ext cx="13214160" cy="16761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ctr">
            <a:noAutofit/>
          </a:bodyPr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65320" y="2905200"/>
            <a:ext cx="13214160" cy="60357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rmAutofit fontScale="95000"/>
          </a:bodyPr>
          <a:p>
            <a:pPr marL="503640" indent="-50364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8640" indent="-4190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2" marL="1674000" indent="-333360">
              <a:spcBef>
                <a:spcPts val="1225"/>
              </a:spcBef>
              <a:buClr>
                <a:srgbClr val="000000"/>
              </a:buClr>
              <a:buFont typeface="Times New Roman"/>
              <a:buChar char="•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3" marL="2346480" indent="-336240">
              <a:spcBef>
                <a:spcPts val="1225"/>
              </a:spcBef>
              <a:buClr>
                <a:srgbClr val="000000"/>
              </a:buClr>
              <a:buFont typeface="Times New Roman"/>
              <a:buChar char="–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4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5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lvl="6" marL="3016080" indent="-335880">
              <a:spcBef>
                <a:spcPts val="1225"/>
              </a:spcBef>
              <a:buClr>
                <a:srgbClr val="000000"/>
              </a:buClr>
              <a:buFont typeface="Times New Roman"/>
              <a:buChar char="»"/>
              <a:tabLst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409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lstStyle>
            <a:lvl1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  <a:defRPr b="0" lang="en-US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fld id="{C3122FE0-B2B6-4803-BB35-828541854BA3}" type="slidenum"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11800" y="9164160"/>
            <a:ext cx="492120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 algn="ctr"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65320" y="9164160"/>
            <a:ext cx="3238560" cy="669960"/>
          </a:xfrm>
          <a:prstGeom prst="rect">
            <a:avLst/>
          </a:prstGeom>
          <a:noFill/>
          <a:ln w="0">
            <a:noFill/>
          </a:ln>
        </p:spPr>
        <p:txBody>
          <a:bodyPr lIns="141120" rIns="141120" tIns="70560" bIns="70560" anchor="t">
            <a:noAutofit/>
          </a:bodyPr>
          <a:p>
            <a:pPr>
              <a:tabLst>
                <a:tab algn="l" pos="0"/>
                <a:tab algn="l" pos="1411200"/>
                <a:tab algn="l" pos="2822400"/>
                <a:tab algn="l" pos="4233960"/>
                <a:tab algn="l" pos="5645160"/>
                <a:tab algn="l" pos="7056360"/>
                <a:tab algn="l" pos="8467560"/>
                <a:tab algn="l" pos="98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840" y="150840"/>
            <a:ext cx="15089040" cy="960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76920" y="937224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553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34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8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39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220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601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82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63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744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125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506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87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268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49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30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411080" y="3733920"/>
            <a:ext cx="381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9232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73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20" y="3656880"/>
            <a:ext cx="100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IGUO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LOCK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4267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5063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506320" y="44956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2280" y="426636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XTENT BOUNDA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23840" y="292500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361960" y="30481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3434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70160" y="5249160"/>
            <a:ext cx="473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 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27560" y="3817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23040" y="4723560"/>
            <a:ext cx="45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 K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6:36:24Z</dcterms:created>
  <dc:creator>Ampex Corporation</dc:creator>
  <dc:description/>
  <dc:language>en-US</dc:language>
  <cp:lastModifiedBy>les</cp:lastModifiedBy>
  <cp:lastPrinted>2007-01-19T17:23:56Z</cp:lastPrinted>
  <dcterms:modified xsi:type="dcterms:W3CDTF">2007-01-19T21:15:12Z</dcterms:modified>
  <cp:revision>639</cp:revision>
  <dc:subject/>
  <dc:title>No Slide Title</dc:title>
</cp:coreProperties>
</file>